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5.png" ContentType="image/png"/>
  <Override PartName="/ppt/media/image12.wmf" ContentType="image/x-wmf"/>
  <Override PartName="/ppt/media/image6.jpeg" ContentType="image/jpeg"/>
  <Override PartName="/ppt/media/image5.jpeg" ContentType="image/jpeg"/>
  <Override PartName="/ppt/media/image4.jpeg" ContentType="image/jpeg"/>
  <Override PartName="/ppt/media/image38.wmf" ContentType="image/x-wmf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jpeg" ContentType="image/jpeg"/>
  <Override PartName="/ppt/media/image62.wmf" ContentType="image/x-wmf"/>
  <Override PartName="/ppt/media/image23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17.png" ContentType="image/png"/>
  <Override PartName="/ppt/media/image21.jpeg" ContentType="image/jpeg"/>
  <Override PartName="/ppt/media/image16.jpeg" ContentType="image/jpeg"/>
  <Override PartName="/ppt/media/image50.wmf" ContentType="image/x-wmf"/>
  <Override PartName="/ppt/media/image35.jpeg" ContentType="image/jpeg"/>
  <Override PartName="/ppt/media/image1.jpeg" ContentType="image/jpeg"/>
  <Override PartName="/ppt/media/image47.png" ContentType="image/png"/>
  <Override PartName="/ppt/media/image10.jpeg" ContentType="image/jpeg"/>
  <Override PartName="/ppt/media/image14.png" ContentType="image/png"/>
  <Override PartName="/ppt/media/image24.wmf" ContentType="image/x-wmf"/>
  <Override PartName="/ppt/media/image39.png" ContentType="image/png"/>
  <Override PartName="/ppt/media/image32.wmf" ContentType="image/x-wmf"/>
  <Override PartName="/ppt/media/image22.jpeg" ContentType="image/jpeg"/>
  <Override PartName="/ppt/media/image26.wmf" ContentType="image/x-wmf"/>
  <Override PartName="/ppt/media/image27.png" ContentType="image/png"/>
  <Override PartName="/ppt/media/image49.wmf" ContentType="image/x-wmf"/>
  <Override PartName="/ppt/media/image53.wmf" ContentType="image/x-wmf"/>
  <Override PartName="/ppt/media/image7.jpeg" ContentType="image/jpeg"/>
  <Override PartName="/ppt/media/image61.jpeg" ContentType="image/jpeg"/>
  <Override PartName="/ppt/media/image31.wmf" ContentType="image/x-wmf"/>
  <Override PartName="/ppt/media/image8.jpeg" ContentType="image/jpeg"/>
  <Override PartName="/ppt/media/image41.wmf" ContentType="image/x-wmf"/>
  <Override PartName="/ppt/media/image19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3.jpeg" ContentType="image/jpeg"/>
  <Override PartName="/ppt/media/image29.png" ContentType="image/png"/>
  <Override PartName="/ppt/media/image51.wmf" ContentType="image/x-wmf"/>
  <Override PartName="/ppt/media/image30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4.jpeg" ContentType="image/jpeg"/>
  <Override PartName="/ppt/media/image40.jpeg" ContentType="image/jpeg"/>
  <Override PartName="/ppt/media/image18.png" ContentType="image/png"/>
  <Override PartName="/ppt/media/image42.jpeg" ContentType="image/jpeg"/>
  <Override PartName="/ppt/media/image43.png" ContentType="image/png"/>
  <Override PartName="/ppt/media/image57.jpeg" ContentType="image/jpeg"/>
  <Override PartName="/ppt/media/image44.jpeg" ContentType="image/jpeg"/>
  <Override PartName="/ppt/media/image45.png" ContentType="image/png"/>
  <Override PartName="/ppt/media/image48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  <p:sldId id="281" r:id="rId89"/>
    <p:sldId id="282" r:id="rId90"/>
    <p:sldId id="283" r:id="rId91"/>
    <p:sldId id="284" r:id="rId92"/>
    <p:sldId id="285" r:id="rId93"/>
    <p:sldId id="286" r:id="rId94"/>
    <p:sldId id="287" r:id="rId95"/>
    <p:sldId id="288" r:id="rId96"/>
    <p:sldId id="289" r:id="rId97"/>
    <p:sldId id="290" r:id="rId98"/>
    <p:sldId id="291" r:id="rId99"/>
    <p:sldId id="292" r:id="rId100"/>
    <p:sldId id="293" r:id="rId101"/>
    <p:sldId id="29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slide" Target="slides/slide26.xml"/><Relationship Id="rId90" Type="http://schemas.openxmlformats.org/officeDocument/2006/relationships/slide" Target="slides/slide27.xml"/><Relationship Id="rId91" Type="http://schemas.openxmlformats.org/officeDocument/2006/relationships/slide" Target="slides/slide28.xml"/><Relationship Id="rId92" Type="http://schemas.openxmlformats.org/officeDocument/2006/relationships/slide" Target="slides/slide29.xml"/><Relationship Id="rId93" Type="http://schemas.openxmlformats.org/officeDocument/2006/relationships/slide" Target="slides/slide30.xml"/><Relationship Id="rId94" Type="http://schemas.openxmlformats.org/officeDocument/2006/relationships/slide" Target="slides/slide31.xml"/><Relationship Id="rId95" Type="http://schemas.openxmlformats.org/officeDocument/2006/relationships/slide" Target="slides/slide32.xml"/><Relationship Id="rId96" Type="http://schemas.openxmlformats.org/officeDocument/2006/relationships/slide" Target="slides/slide33.xml"/><Relationship Id="rId97" Type="http://schemas.openxmlformats.org/officeDocument/2006/relationships/slide" Target="slides/slide34.xml"/><Relationship Id="rId98" Type="http://schemas.openxmlformats.org/officeDocument/2006/relationships/slide" Target="slides/slide35.xml"/><Relationship Id="rId99" Type="http://schemas.openxmlformats.org/officeDocument/2006/relationships/slide" Target="slides/slide36.xml"/><Relationship Id="rId100" Type="http://schemas.openxmlformats.org/officeDocument/2006/relationships/slide" Target="slides/slide37.xml"/><Relationship Id="rId101" Type="http://schemas.openxmlformats.org/officeDocument/2006/relationships/slide" Target="slides/slide38.xml"/><Relationship Id="rId102" Type="http://schemas.openxmlformats.org/officeDocument/2006/relationships/slide" Target="slides/slide39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dt" idx="1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5"/>
          <p:cNvSpPr>
            <a:spLocks noGrp="1"/>
          </p:cNvSpPr>
          <p:nvPr>
            <p:ph type="ftr" idx="1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6"/>
          <p:cNvSpPr>
            <a:spLocks noGrp="1"/>
          </p:cNvSpPr>
          <p:nvPr>
            <p:ph type="sldNum" idx="1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4FA0-F0D9-421B-8AE5-C5F9A42A0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DC80-4D44-42AC-9F69-6A3492FAC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4336-AFC1-4848-B647-92CE3ACC8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04EE-5396-48DD-A067-BCD5E3385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3DF1-B369-4D56-9D0D-AA941109F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58EF-E9F2-463B-947B-EA5C5B1AE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12D7-C151-495A-963E-2CF17A787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5CA6-7F8C-4C89-A64E-7E29945CE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2273-B13E-4BCF-B755-12F1CB524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1726-6A9A-4C75-B9CC-3CF15D11A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6C13-8E65-4F64-902E-68B027913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8758-070A-40ED-BDEF-EF2FEA929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D330-A423-463A-9EB9-DF3E12B02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4 : Implementing an Equipment Maintenanc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00D7-F6DF-467E-A7C2-7E72A7CD2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6BA5-8543-4BE8-AD3A-80372C7F8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08D6-066E-4A65-969B-4C3A09A3C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6021-4B6C-4835-ACBA-24F084E0D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49D1-1BFE-4314-9E3A-7935126EF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EAD5-EB81-40E0-B476-A90215853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5E30-2A10-4C12-9D97-85868EF13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4AD0-92CF-4C9F-9E77-09A882785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E9FE-CBA5-4F83-8ACB-01D4CE4F0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C4F4-C388-4455-A352-CCCABA8C9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9588-1601-4815-B049-57DF91FA7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4EA2-6B6C-4095-A415-ED5DAF7C9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49A5-509A-4908-B1E3-36D58F94A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A63C-93B0-44FC-9FA4-6842A3A1F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6 : Troubleshooting/Retiring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8C2C-5949-4842-BDBF-B0EE2A0ED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2E39-3C05-4D14-B7D3-9744AC7F4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0648-EADB-4E37-84C8-123B29C4B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C301-F7BF-49CF-BCCD-80EBE7A2F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578A-E74B-466E-9B72-BDB697A15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2074-41CD-4D17-B631-0F7DECC24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7501-64CA-407E-A230-50DD1A4F0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6DD3-84A4-4160-9099-124A10B75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7FFA-B3FA-43E0-A78C-9FCACB63B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C1CA-F860-4A9F-9776-AE27AE0E9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E1F6-AEAA-4826-8F6C-0B72F0B73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65A0-6816-4CF2-AB5D-69F93B617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412D-CB0F-4589-85FD-0F63D268E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04A71-E777-4044-BF61-8DB200D7D8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C6DA3-4CA4-4EFF-BB2E-A1F5B6C082C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4A5309-7F81-4B13-8F56-6A36AB617E7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FF9A0D-39AF-44DE-9B8D-80F3D912CA6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FF93A7-D3A3-4299-8C92-293D6479E70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291FB0-5465-4AB1-8FC0-D60B0E4BE05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36B145-8F10-4E89-9A90-FAF5B8B9891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16AD3A-2603-43E4-AED0-C9F719C7501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33DAD6-67F5-4CA5-A5DC-521F51315F1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1FE241-8248-4F7B-A6C2-2B30E5D25A4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BFC05C-AA5C-4550-8FAC-E6268D2B96A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FC0C9-6D7E-4BB9-BE98-E350A9DB42F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F2478-958C-4368-8466-EE6FF55703E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8F116-643A-4015-BBAD-F0EFCCEDB05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8343B-795F-4180-A2D6-8056523DD61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72819-5325-4908-986F-6EA3C39E94C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32D39-127D-4539-AFB0-5816EFA7E2C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F738F-0D71-4BE5-8510-A2849D18993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A2788-AAA1-4DA9-B2E4-A1E7CBCDE41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BBF0C-18E8-4695-A899-3F546C2B9EA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839F1-81E6-499A-B9DB-8AE1E0D0478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CBC03-5052-4C0C-9D26-369F38FBD0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5DA59-1411-48D5-BD27-9936C3676BC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932FA-5608-4A5B-A2E8-A1CFD2D283F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14315-CB54-4D58-93B9-D196276FF29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CCAB4-CD68-4E69-9CB8-E24B3D19F52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38C87B-AF45-4A31-8B1E-3A9C173EC79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4CB737-7A00-4057-B4EB-3A80F0E4E34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E34679-FAD1-4F42-AA49-070156499F3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A52AD2-C933-45E3-A252-0D94A8E0BD0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C30754-6207-4CF3-8EBA-A768DC0C55E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0694B8-668B-40BA-A50E-F06BB6BFDD7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1C6721-5350-4CBD-9B3C-FDCD2BB29B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3483E-C95D-418A-B4E6-5E299948084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2199D1-EF58-4696-BF09-3F3B2CEC3BF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5D74BC-0C3B-47B7-A8A6-91CF51E14C7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1A5955-C5F6-4451-93ED-AE4146FBEBA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9D5504-A989-4731-B469-B721E7D3D68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43999D-2CBA-46E3-9858-2924A337E7D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FF579B-37C9-4CE4-ABBE-04266DF2CF1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5563D2-2535-44C0-A4BB-D969ECF2F4B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265D53-3BCA-47BB-BE21-FBFE28B426A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34E4BC-605E-42BE-936E-63AC643C81D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3925EE-9F3E-4F73-8280-DA8CF3FFDD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37E0D-E9D9-410C-A01D-98FD90A8B88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C04BD5-C54F-482C-B08A-4A77F1BD04B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347FE9-116A-4B9F-B6DC-44429A3459E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E515B4-F7E6-4EF9-A557-C2669401775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A8B9C8-555A-41BF-8995-498B7AAF649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C4BD72-DB28-4DAD-BF8A-7FC69FE8AA3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BF1FD7-B9E1-483B-B2AA-93580D55BAC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32BA55-07B6-4374-9128-E18AE3A6F62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B99B7-6E69-474F-877B-F9ACD45851D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A0664-0479-4FE4-B99F-1F565058F01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833F0-DE30-47D2-8E9E-A60B51C348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4B871-0FD3-4270-B0A6-A0C20BFF68B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0A820-959A-4797-9990-48F4CB23369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504E0-6401-4D50-B7DE-6457D0598A0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4F748-F9FB-4BF0-852F-AD4205D6970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E5B49-328B-4723-B0D9-0CCDDDC8B45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584B1-414C-4036-A5BA-0467B01B8CB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79DC6-0792-4DAC-91AE-AE5567D6B42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1F9F6-F26E-44EE-B2C8-D90606F3627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778C8-DF80-4495-B063-2806E053AC9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E78BD-624D-415A-A1DB-D675272A1E7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D5BEB2-0347-4243-982A-93032999A5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7FB65-615F-4C76-A4FF-8AD5532B840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68F2D1-A42A-4B51-BC41-80AD8E55246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3CBF28-3725-4109-9DB1-3AB0468D5F9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4F54F8-5892-481F-A641-A1EDABA12B6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E511D8-7542-4F88-83B2-FA03BE80624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11468F-354B-4AF1-AB1E-B9B0FD87ECA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DE922A-7267-455A-A474-3F24DAA5806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20AEAD-F4D3-4FB9-AB1E-C9CF130CA41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B06FB3-680F-4034-B195-55212B0AA92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5B7066-9F0A-4B71-950C-1DACB3AADA7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00E6C9-B713-457A-AAB5-83A3CF1B07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19559-753E-4957-8B24-CB6CEFDD36C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92BD33-F39C-43B4-BC35-39059657408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9D9293-A283-47D8-805E-965DFA5E6E3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FC1D41-4933-4A5C-B887-BD2EE355878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AB6047-EA5D-496A-84A3-04F0F5B6E3A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DFA189-8B43-4804-B221-B04D66CC1A7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0258B9-C2EB-496E-9879-482CA20170A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D380A4-349E-469F-85CF-FF569BD1CBD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05C6E0-3EB8-43F7-B876-454FF603900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107FA9-188A-450F-AA8A-3F9C1D67C0E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EAA498-237D-4980-9BA3-DBECD89568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696FA-B08F-41E5-8553-AD2E9C15DA4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703845-2BE1-48B0-B015-7C2938A67EA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6F5C48-5FA6-4369-9F1D-C711B678594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E2A3D4-8F27-4A7A-8390-2211A868858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1377D-F3E9-455A-B9D6-CC72B7E3DBE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7F851-211F-4FBC-B6D3-BA138396709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591CF-3B05-4521-B241-39090293858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14C3E-AB83-4B3E-88D9-C37AEAF50AA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F1736-A5E4-4F4E-94F8-412F6B777E5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5CC2F-5A93-4FD7-8DDD-AC268DE6FBF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535CC-2623-4D13-8E6A-168F9FB422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7D430-C180-4D04-91DC-3321ABC48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D4EC4-0B87-40EC-A999-3383D813BDD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288E1-78FA-447E-A13D-CA9FAE8DBC0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6EF5B-7608-4BE9-AF40-773FFD0A62C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C907F-1FD6-4D74-B678-DF40B608AA0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E8153-070B-4FD8-B919-7662FB1C715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C07B0-FDB2-4744-ACA6-1BCEFB3B252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3F869B-A1CE-4109-A499-77F438BC20F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0B9890-723B-420D-8675-EE2D2A275A6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F0D767-4005-4A47-B0CD-40E032DA91C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066B4C-62D5-4048-8389-FA9C940F945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9769D2-BAB4-4B8C-8C6C-31073CAEDB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E4773-B62A-4EF8-9073-424238D4711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41DEB2-652C-461C-8C05-E1551712E8E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95081B-39B7-4EA5-85B4-73470757E02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E4F1AD-5B02-4760-87CD-443CCC507D6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4EA364-380D-4AD2-94BE-61476060036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48A373-F669-4E6D-8EF6-3F1929CBBFB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BB53A9-EC9F-46F1-9182-7627F6C8113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4EFD4C-262A-40EC-8C25-C6C4816493F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986FF1-8F6F-44B6-83C0-4ADDCCB0858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E0E5F6-9D6D-4C03-A936-94E68B92ABC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31393B-C3B2-4CF4-831F-A16EBDAF8C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F2734-D944-4360-86DD-745D93270D2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E2FE5C-CD3C-45D2-B8E8-7B1E3581541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616FB9-E99D-48C0-941F-2E694672C59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5C09C7-60C1-4F48-AFE2-DC650950AF1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D63D7B-FB22-4416-A3F1-501C73B1592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BBED1E-FDD8-48B7-8D57-35C936B5C96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1F6D4A-D5D1-4DF0-AC6A-66D8357FD6A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FCE3F0-4736-4211-9F79-78EB4788A95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E3DE43-4E97-411B-BE39-6945160BCDC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C155CE-A5FA-4CF9-9276-DF6EFEE7CEC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77C72-2FA5-4D7C-AC8F-E52CA35192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1B0ED-EDD2-495E-A7C5-2C9FDC71A01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7AD75-E719-4243-934D-F1C6156E54D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48BD9-3699-4F90-A58F-4971F8DCBEB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1F5C7-3EE4-4991-8CAF-B411D2E7E25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56CBD-BAD9-45BC-9612-2109E37C3D6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58E33-580E-47D2-8400-599D132F998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AB8F5-582F-4FDB-B663-F5E960CBACD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3108E-54F1-421E-826D-987C29A2D88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F5C39-9E06-48B8-84CF-F04FA98C80A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C48E0-59F4-473B-9B93-8478DFC8271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60D60-71B9-4078-916A-090C509926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70759-8A39-40D3-8ED6-522F04F9FB6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8628A-E42C-42CB-A777-2E5065F06AA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7A5C4C-516D-4815-A16F-EA2E0D922AB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A86E15-570D-4AF3-9992-4943E803FD4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ED6BA8-1B24-430A-8BA7-D768AC28101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D34722-E4F9-4427-AF6F-F6E6D800917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8A82A5-E753-430E-B57B-CA983EC2A56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20710D-7B62-4FDF-8A6D-18F19FE81A7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7C0B4F-6A90-4521-86BF-41938618548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08AF2C-3BE7-4711-97C8-66CBE26BDC1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050E03-A5A0-4706-AC2F-645744624E7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2391-7085-4FCC-8C36-F0D2D37893C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DFBB5D-1DEF-4891-8003-8DD450AAFBB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C3E303-4EE4-44C2-BE2C-DE0F80F10EA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BAB272-E3CC-431B-967E-A470B0FC016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10BA50D-6F5E-43CF-9CE5-1E998449321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D83AE22-EA8A-4672-B403-09C0361F299B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0264634-D861-445A-BC2C-C5F20BE19FC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0C85103-3B73-45DA-910B-829A83416C9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0BDBBB0-5291-4738-8F4F-F8529E89E8E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15BAE1B-18EE-404B-ACE7-08B35A88210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CEB393E-D4A7-438A-B3CC-BD94B773E9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7163-B294-463A-80BE-DBD947FC5D5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6FD5F65-70F1-416D-8AAC-22CC1FE2B04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E3C32B6-01C0-46B6-A487-DED657692E3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8693332-9179-401B-B3E7-7107B069427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2DDF573-D2CE-4421-AB33-771B47ADC50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CA760AE-EE80-4AD8-BCAB-57745B09581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4C86-7653-4A3D-9231-57826FC9D77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59591A-8C06-4F74-B83E-67FC1C538D2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8108A0-0DE5-40DA-8FDD-3A348E5E3A0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9B39C3-80DF-4DF4-92FD-1727A2740B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A976-9157-4708-BD91-172FBBC9680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B2AAB7-8A27-4862-A477-196CDF59F8B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A618BB-7C9C-4069-B49A-FA84BE52E1E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757086-2F4E-4024-961D-BF73A4D9B86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F8A1CE-8E2C-4A4A-B1A0-F48580D3FB0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CB13C1-A802-42A0-BEAF-3B78C08EBED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339168-41AE-4162-B71F-6E9C4555253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7D388E-5C32-4048-83D1-6D70F88299A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C9AAAE-CDEA-4B3B-8A7F-ECD0FDFACDE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E3AF7E-6E14-4FCF-BD70-3C9FACFAC80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0FA0203-E77E-4F80-A82A-FA584D4775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51A3-F635-48B0-B600-5C2454147F3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1CB4243-C489-496F-BE62-DB37EA34D2E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F153217-B95F-4D2B-A8FD-672DAFD80D7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1EBB60F-0E79-4F92-AAAE-BF2E55B7F21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A1CD0FF-A278-4CF1-8C88-EA7594A08D5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D26FBF1-E845-47EB-BD13-F30872C8E9C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6CF4B9D-260A-4D5E-B2EB-C94E45E5FCB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2B95CB1-EAF0-43C3-8A0C-B8437868714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715217-F77C-4EDF-8FD5-DBCE284CAD5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1E95526-655E-4901-98B2-8D17F34051F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2DE66EB-ECA4-4E62-8FA5-7E85E7B374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568EB-05D7-4D3F-AE6B-3910E7E751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DDB2-9D84-4FE7-A573-25DE76675F9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D94A35A-543F-4FBC-95B0-211F59FFBDA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FE22C30-DBF8-4020-BB98-E8F5E3990A7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69DED0E-19BD-44CB-8FD8-870587AC2BE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B7D0B5D-B1EA-4E87-94DE-91D0EC252DD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056C92C-F732-48DB-8D90-928723CB9A4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2825CB9-FE1A-4EE6-BCE2-BA94BD34522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F5C1B3A-1F5A-4301-88C3-0391804D2DF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E0E5893-EE60-4C35-9129-458351F4785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5AEC689-3078-449B-8090-E56FEE3B7EC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35E73E2-0680-42F8-9648-5A06D5F94D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A132-C7A2-4270-BA6F-34B028F037A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20F65B2-DF6E-47FD-AFF1-BFC464F624C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8E0A616-1040-425D-9F2F-354D1C51E80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2276335-A0A5-4773-B382-DCC5DAA1F1F9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B1C0C8-CB04-456F-AB4D-1A4FC494CF2A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2BC055-74A5-4480-9261-2F5CBF43E468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59DFF8-75A8-465E-86DE-888CDBAF6651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B795A7-9794-4FF9-88C2-4179446E4061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097D2F-C29F-439D-B02F-6F67D7E0A487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970CF4-C390-429B-9E55-52F270E9E818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7C56D1-743F-438B-9606-8A07B7AC06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4E45-9465-4044-A416-035D0866407D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B6CECA-C226-4E21-9F14-AC861593F8A1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B0D558-F16E-4663-A667-7FC168CEFE44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183493-6D78-4166-891A-F325977DAAB2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F59985-D8CD-49CA-AA55-576820E6A35C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0D7D9B-E51C-4AF7-8691-49B3E98C859F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401240C-AC46-4676-9AD3-AFC38037B451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C29E58F-4A3F-40DC-AB40-7017D4D3F046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ABD217F-69A0-4F87-9D43-9CE69619F725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F76E14A-41F9-4445-A81A-078CE5C244F8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FD7335A-956D-4923-A67B-1ABBF54EC9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B2A6-1F34-452F-84D9-0B823BE60C42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46C3CB6-D2DF-485B-BD82-BA4348366CA1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7BCFD60-05FA-4E89-8C1C-77C2F38EEE5C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14B0E2C-98B1-40CF-BA85-7C53A1EF1DCC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15B0ABF-2122-452E-AF63-8AFA261544E7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3B1C896-D347-4F5D-AFC1-7B42E3BA5367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7FF5856-0BC2-47B7-8AA9-CA005002AF44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FAE6090-E454-422E-8AEF-91E8D885A129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02BF8D2-943D-4BDF-B5AB-635E34BE26AA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ADE56D2-13BE-4298-A698-57D857C90D07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B60FE5A-ACD1-4BD1-A98F-4926AE5CC4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FD4C-BA5F-421C-8165-CC5115931623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8AB3723-BC12-414B-8091-AEA9706BA47E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901E444-1FF9-47FF-A2C5-0915531B1099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FE2CA5A-2C9E-4C5F-83AD-BD972AE5BD9D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F960FC7-B6F6-4419-878B-38C622E66011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AF97468-9789-4516-94D9-4BEF19427A4F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11012F7-D91C-4CAE-B551-A1CA8AF32E0F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C9881FC-63C9-4F7B-BB5B-1C0E7ED0858B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EC58CFB-54D6-4251-A7A8-086BCEA8AC66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EC0CCB2-AE59-45C9-83B1-9B98B80C2DC9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73BDD2-7B4C-4D6F-99D7-CE7961555E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0E31-A057-4E4A-B0D7-EC7DDBDD4C40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6E369B-56E9-4EFC-A89D-B65F64C48966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57E42D-9C41-406C-832B-9144678E7DEB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EA73B5-83A3-4D1A-8464-0CACE8F2FA5A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21C7E2-935A-4431-AC3F-89F065D6FB59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7B5179-D4AA-4FA1-B4B2-1E49F4BE089D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76F2E1-354B-435E-8BF3-2E9430B9BB2D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632C43-A7FF-4747-8ABC-02440DF4B9C8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4FBA60-D057-4218-968F-5CE50D404513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7A45BD-0223-4C4D-AD11-08852DE65F99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71ECD0-65E4-420B-99F2-E0BDF49F2E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636A-0F90-4963-9376-0FB2B2828DB0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25456C-EBCA-4547-A25F-A1CF9433E511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D5C47D3-BA3C-4109-BC4B-65A0846151AC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F8819B0-0BC9-4333-8797-1FE4BDAA6799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84A073E-B7E2-41C8-9EA0-D71E04C42FE0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B9235C6-E384-4698-B4DA-7FBCC1A308A0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FD21092-EA70-4FA9-9B33-E96DC7889F2F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008AF43-AD55-4852-8392-CE579C9BAF06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CAE88D6-59A2-4719-AA9A-A01A4AC95726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CFAF486-2D4D-4E70-802F-3EC2ABDFDC54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EF1BCB9-D82C-452C-AA6A-345685899A7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E3213C-7773-4B6E-826E-20B0FD10C629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AD65632-68E1-4FA6-9054-D70E1FE32AC3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9B19BED-7416-4094-AD99-B2841FCBD332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152CE44-DCE1-469C-A0AF-80AD9F75FADA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29E9636-04A7-47DA-B988-5A29625E2CAA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4354DAF-5946-4FA3-A670-DCEAA743CBE1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2733014-030E-4278-BCB9-A1D441B7D65F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DC6592D-0681-4AA9-9F30-D562EDEF8CD8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0CCE740-8C88-488B-B56C-E9E45F3DCDD1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63E212C-BDBD-4BD4-9286-8FBBE98E56F8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F961F27-1F21-4776-A496-15647F0869E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84D6B-A5F1-41F4-9A26-00D386E05444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0807644-906D-4236-8AA7-9AA28D3404EE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FABF601-A640-419C-804E-B05A251FD695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FDFAABE-A045-4474-A599-8686AC0E1B69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E26D34C-2A0E-485E-84FF-8A0C3908135B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D4AE5B8-0220-4C2D-A2F1-2DE4832D4B69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A26EFD-5A1E-47FA-840C-93773EA91F01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6826CD-47B1-4C3D-981B-84E8B7B9BEED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57FF3A-C981-4FAB-83F7-7398DC9B4BD3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EBBBC5-382A-4E6B-AF44-3CDF07677250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60F8ED-B981-4EC7-9831-45C7D4E29C6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2297B6-F00C-41B3-954E-69E51949A348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3B1640-03C1-4478-88F8-9034EB6AD4C9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604D81-9B96-4AEE-BCB7-581DD5F81975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B61D3B-E869-477B-BF7B-DDFD2FDFE8BA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824583-7021-4D0C-8AE3-5FFCAD6172C5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1F4714-C56A-4691-87CE-10A947718992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AA6E0C-5364-4A5A-A2AE-6D1EE8646894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D1DB57-8240-4D95-9C64-FF27804F3896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E322503-3EE9-425C-9DDF-B7BEA62E69C2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C746B74-9861-4B3E-A51E-6866F11D159F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763627A-DB0F-44E7-88F0-225131CD5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F00C4-932E-4A96-A361-5C7F142C0AA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49F5B0-0D10-4D07-8EFB-3B9D06D371B1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B529C69-D7FF-43AC-A020-039D959D5268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FD310E4-72F4-47F6-A4ED-3ED15E995B28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301AF50-93D2-4365-95AA-F815EE31ED4A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5C1C45D-6D49-4706-9E9E-135F20B0F7CF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E324CD3-9C39-4E07-A987-A88151BE6357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E89233D-E291-4213-A1E8-745C4F6DF003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2DFB3AA-C09D-46D2-90DC-997D25BE142C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BF316B5-86ED-47A2-893A-22FC815B6417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8850CA4-0EE0-4959-9709-38BA5C8C3BB7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A03548C-DAFB-48DA-9987-9424F9B791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C542AF-0E69-470C-AA9B-6C4494B6DF6C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FA37B87-8B90-4C41-B5F2-302063CF12C0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D79C559-5879-4155-933E-67A9CF2639CA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17D6DEA-CA15-46E1-8428-89893F10AD76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02A8CDF-03E7-453D-9C37-AE67601CF7E7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168EEC1-AB08-4459-B295-F862E0081ACB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0888DEA-AFE2-4BEB-A43F-27853BB76F21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9AD1BCE-6C45-4C87-93E5-C579F92239E9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17D38D1-117D-4E8C-B640-D95DC19C3CF6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75E880E-726E-43B9-B00C-B47AED54C551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029EDDB-2A70-43DD-B9B1-FF633FFA4B0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DD8A0-A91A-4BAE-A9A6-AE31101EE627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035D460-338A-4F9A-8E83-1571DE4C21BF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8C142-EB64-43F5-B4D0-6EFFBCB3087A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FCFCC6-C898-4F7A-9EFC-38211870DEDA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29A2E5-DACA-4A62-BC59-CA87266901D7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309965-2659-4D96-A847-86BC4B9CFEF4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9ABFE7-34E3-426E-97F2-92576A8AEB67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6AD389-E2D4-49C3-8079-CD004258F5E9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6D7B2F-E904-4771-9925-D84ED8ED7A4B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2CB43A-2609-48C4-8FDE-C756F83782A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2E9EB4-A3A1-454B-9085-4FA81FDDA992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DD8287-73E3-4F91-A3E1-0B3937565B62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C95158-16B4-47CC-8F21-181ECABC1BDD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38DAFF-49F3-4F84-AF69-7C4DD8D21835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CA6D97-65FA-460D-8AA2-AF74176ED779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06D839-B28B-4B1E-831E-2114710A8269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8BE7EEA-B2F3-450A-9A5E-E65A55B812DC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4FAF100-0A68-42A9-BEFE-08E8237D608B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379CC8C-66CC-4308-961B-4E0468CFE967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C830E10-6BA0-4070-A64E-4EDFB338C052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492E04D-9A27-4BC2-8957-6ADC727D3C7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C05244-AD1C-44FA-BB09-100DED605979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B9630F8-F3ED-4D59-94AF-7584EFC3DEA4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F5CBA77-2110-4875-A9D5-88C86993CBAA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52DA680-EB68-4D39-9E94-A33881116974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DBD1031-2C04-4193-B814-4765CCB40830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7030C5D-374D-4C3C-B2CB-E1DC69D0349B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06C03CE-95F9-4F00-9906-98A54F8215A9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569D2A7-FABF-4966-AB31-2B9E77C4BE06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F0AF4E6-C0D6-47BE-A692-7BF1F1E42129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9985DDF-DAD2-4836-A077-331983104DC2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FFE694E-6E47-4642-8361-FE39B7FD269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4D85E0-6222-4B14-A90C-B767A9A75A58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B3F9901-0B3F-45EB-B8D1-D70230B20066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CD6C09F-6094-49C8-AAD7-A964A12A3787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80B621B-48D0-4864-93CD-986C7C710FE7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9D483FB-2C51-425D-91C2-2E0BCC178BA7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8AE26D0-10CA-4E63-8D62-BA3ADFF42944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1F8D8CC-5DDC-44D7-9337-A043FFAC4560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7A03201-31E1-4827-B75A-3D3ED377A7FE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FF86F09-C20D-4AB0-AD80-BE5CEB98B4ED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98CD456-8EE1-4396-B1EA-40FB1D898362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D0FCAB-4AA5-4DAC-B1EE-1B61960E61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7AE6D-FB84-4BAD-A509-BB4E7016F76F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DF09BD-BD38-40EB-A8E5-364B21FDECE2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F4D85B-2BAD-466F-A0E5-DF504D1F56A8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F3EA37-CE55-4A2A-B04F-EE3B67EA1384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99F4D9-CAB4-4333-AA40-C61A6395C619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911766-94A3-4F31-924C-B3D139F20E6F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1DCDCB-05C2-4CEE-A940-30413A7DB1DC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BF618D-2A86-4748-9409-2C38EAB0018D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8E16DB-29EB-47C7-935A-C24B06093219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AC5BB9-987F-4D62-AB56-B48EBA7A301A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880B40-DA72-4F67-83CC-7EC36415B5B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73A92-A9AD-4FF2-BB4F-DB1574743C79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568384-34E9-4BE9-BA68-E5DF8296259F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587F982-2E93-4B58-8B16-C44EDC3B2472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F6F2D33-DE84-49FC-81A9-204D0BFDB54C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D2190E8-E050-4A86-8BE9-3C9FDC874177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017CD89-D43E-488A-9B15-C1EBF7668253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BD14CED-31E8-4CD6-8BD0-B04EB1DEA82C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AE91693-EE72-4A5A-8A12-B6946986D0C5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9A7F314-7F32-4E2D-8F2F-259EB6368D64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BD5CDBB-A94F-4770-A588-58AE97DCDDD2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163E0E5-CAD0-4676-B90C-390A7F1FCDB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A02DE7-EA65-43FA-8315-73893C13CF93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0D338A4-0C44-4097-8358-940F383D5455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427A2CD-E090-4457-9AD9-9790169073CC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19C939B-6F72-40A6-98EB-2926803DAA16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A5A3F7B-FDB9-4785-B943-D534EA3B730B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D1E6BC8-15DD-451F-A936-AF915E2F5699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D6D9171-2163-4A20-98A9-4B948E355641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0261679-0206-4188-9D8E-38BDE1FDA154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79F4CB0-DED5-408C-8CD0-87081665321B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1C302C3-4243-48FB-8520-B5B40017DCEF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5A49D42-9E32-407E-AD22-4018E3EE4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37289-7874-4B42-84EE-0A36ECD168C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084C38-38D7-4387-BA90-D8A5A42037F5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6A9F907-624B-4423-8186-732F050C934E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29B144B-E9AC-4598-942C-E25AE7FECC87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FB4C8E6-F294-4355-B3A8-EE258F8C7803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4F97503-C6EF-4782-B9FD-99BA60CFDD52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ADD411B-D24F-49A9-AA6E-E215E3044BF6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381DA2-BE7C-45E5-8155-82A477C6D359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281847-713A-4123-BA1D-D034DB70B581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15909F-19F7-4016-A3DC-EEDCD9F6768B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A85326-D022-4CB0-B4AF-EA8E33C82DA8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C96753-1950-4540-81CD-BA8292CF2AE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8FD23E-BE9A-4BAA-B0AF-BD07EB949CE4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335619-D105-4F65-9829-C76734E92AB2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DD66C4-3ECA-41DA-924F-D2B0A33F5E4A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A6F1EB-8EE2-47C9-8F77-13D365AC48B7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FDEB91-B1E7-4B83-B4EA-71D8342EA3D7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DC92EB-8396-42E1-BABE-859FEFED1195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59810A-0876-4BA3-865D-5435F031072B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4C2CAA-7A4B-447A-8D7D-D1B6CF5C7E7E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BD91F7B-A8A4-409C-8EF5-75EE8AAC7C99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E232343-6C73-46D2-80B9-AD882E7CCBA8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4DA4E30-1435-4759-B8E5-355F49329D1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96CEFE-B6DC-4147-B44C-BA8E2120E235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1DFCE5C-ACD3-4F50-A93F-21A40B0207F3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3DD3AD2-21E7-44D0-84F0-9454D081D2FB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FDD7842-C40A-4A07-AFAE-DE66764213F5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E3ED002-A8A0-491D-8AB2-8D45A05B71C4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7A8EBFC-79D3-4717-A89B-47569428C24B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C1ADDC7-6892-4CFC-949F-859EA55A085E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12F2DFB-5D9A-4981-931E-F6292BDCDD90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1340F60-EBDF-4E8F-8AAE-287DE234AAF7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879581D-E9AC-4129-AE88-C79B5597BB7D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7715E60-3C5C-47E0-A2C8-AD53374EA65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93C039-23E2-4461-8C41-7C76542F5D69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E571BD0-7CC4-4870-9310-7F15A7AC685F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94DAF40-0C74-4DDA-87E6-0F4465DC22BA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B5A0681-C25D-4A89-9BE2-1043AC5A0792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28D6717-3B77-4D9E-9B2D-3801C44C27D3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60882C7-2BE2-493A-B9CD-C4F47C67D992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459019A-53C7-4757-B839-A8925ED5BFF1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EF56369-A1DB-4416-A75D-AFF5249C602D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D49060F-24F1-4F10-B2DA-8E7DC8BF9B78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8C662B9-B1A5-4379-A682-B7B2E4687868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372F7D1-A72A-47F3-A825-90FDAA80AB7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301A7E-8EAD-4B61-81D5-953A093F3F59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2B6269F-FE2A-4E21-AAC1-FD61942F9B9E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0B7EA8-161D-4C05-80C9-D3430A052F2D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069888-359C-4BD3-9C72-DDFCE3E343B6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39E88A-9177-4C90-9DF2-6A0AF70795A6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1594AC-4C0E-464B-8F84-2275274F1C31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7AC9B9-DF27-4FF0-B89C-B827B9B521EC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19C12D-19A7-42F9-A752-929C1A562660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0915A1-2859-41C9-9F5D-0DF7DF229B19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37B69F-4163-4CD6-8DD5-322A46CB9939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DD86C6-348D-4C08-94A7-B74AB792243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4E226F-A5A3-4F8E-B093-373B3334465A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EA7AB8-6374-452D-912A-DE3167F7E55B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8DB96C-0234-4213-9F25-FA43C2D62D36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B0B702-C49C-4C55-B6B3-6D85B0DA305E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43196D6-ECE1-4AE4-9CDB-EA58550F8820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E877D2D-2EB4-4198-ACC1-90D1C50F1D3A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5F29485-15CB-4824-9FC2-D4EBB918C772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78E095A-955E-46B7-9E34-96947C2142DE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BE75DB6-55E5-474B-8C7E-9C46D6AB28D8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FBC181D-3E82-4FC9-AC40-5ACFFAC04A81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1177622-AF3F-4BA7-B58D-3662D6C2F44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F92414-4A34-4A65-9C98-07C7C0B34889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D51CC29-DEFD-4BF0-888F-8FB5FE8B7C16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E9FC95B-A0F1-4AFD-8CD7-2457F4F9E6D1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7938D63-F6E3-4496-884B-ED95E9829DEF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CEC2842-B798-42B3-9CBE-5B7B781EEB30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5114093-4FA2-48EC-AE46-3B63D0143951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2A98F79-7821-4409-A11E-ACAC2F99582C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5965C8C-1F79-400B-B27F-B1AAB121C547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F4C2E29-757A-493E-B419-027C6949F92C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F5A3F65-F4B1-47A9-9CD6-D0842F692848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55575CC-7063-45B1-9D1C-F602910CF16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71D835-BE17-4B70-B3A7-638FEB7A516A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F655466-672C-4C6E-8B72-A9A7D27F64C9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8A51B98-3DBD-4C7D-9C32-EC7AA9DEDC90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7E37031-7E86-4786-AEC0-C7754DDB82D6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A2C7B70-9C51-490C-A0FF-92D34D0C3A26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5F1D9F5-DE00-4FFA-8718-5F2784873CD3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33AB623-439A-4078-B77A-946CBEC9A750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2BBFAA3-0A02-44D8-8AFB-5256344AA034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D1FD9F-6613-49FC-8BE9-501AD4EA4BBE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9E1FF0-53E6-4601-A699-57E3250238C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E371E8-BD39-40FB-8C9E-6CE6184D1F92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A8CFEF-BD64-4410-952E-7412D6DF8A04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E2F4CA-ACE1-468E-95EA-B01B8C82FD82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550F94-70E3-432E-960B-98DCABA3B3EE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3B5A11-8B6A-4333-8CEC-965B97863774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AF10E0-E07C-46FA-B3F6-DF18C2052250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20D064-BE06-4583-92CB-7720759B2B69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3A3E38-6826-4EE4-9DDD-D7095F537CF8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BFB5BB-703C-43F5-99E2-388BBF38B4A3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BFD334-C454-4A6A-95E1-3B9ED5317123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563C9F-C71C-4761-A09B-776FBFB2C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85424-192F-43FE-919A-7FDC505CD36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161ECB-3FC8-4245-9BB3-6FA79DEBECCF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50F620-FEAE-4336-80FA-F81A726F3735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709CF07-D8FA-4702-B85C-08D91A950A4A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FD3159F-24BA-4B7F-AA49-A6E9C5B047A8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A0A18E2-D32C-45AE-BB80-06D74826FA23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9F45C4A-990D-4669-97FB-A3C84FEE02A6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877F8EC-C14A-4AA7-8EA1-FFE00208A180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BB44C20-E503-48FD-AED2-51FDE2651A39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CC274DC-ABF6-4B69-AE4E-5A3EF4F9DF8F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41E55E2-804D-4A7F-A373-538012EF26FF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9888EB3-CC50-4CC8-99F1-ECAA86056F0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A5FCE-3D89-479B-B4D8-B44D3B1B5DC8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84CC77E-817C-4335-9050-D0D63C5E8899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07941F0-9A0B-475C-BC95-4E8A2F4530E2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B829F9E-D70F-4439-93E3-2371AEAD6AF5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0F8F8EF-6FCF-4267-A67E-3CA02154D789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A474137-1A60-425C-AD3A-E8162861CA9F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097A756-EDC0-4BBC-BF9F-1A274A3135EB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C46874A-18D3-4205-B335-CC6E56349E49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2D439D7-B68A-4FC1-AC2D-30A4A390FD08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F979D89-5B76-4E2A-A823-84C9CA89F850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58A75B9-665F-4E13-8710-E5783BF741D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C946D-51DC-4E47-BCD7-FD7D6515AEB0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33D6BF4-1814-442A-BEAD-7800A3AE4793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D25C318-2579-4EC2-B31C-6DE52D53AA7C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B57D842-E53B-459E-B3BC-D716C3525CAF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EBEBE2F-3160-493F-9A25-91862C8EE30D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D08B132-EF60-4CC2-B0C0-BF2696D9CAF3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A9125A2-1FE8-4A9E-A52C-37A32EA44DE9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D0E6044-0DA2-4849-9FA1-378A24BBD416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52D9D27-D18B-4FC9-B9A1-811DC5BF2264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2AC5D43-B1EA-49D1-889C-0CB6796D91C6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7CB4CFB-D32C-45F2-8024-89447570DD0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3C152-3E99-4C09-8734-0D09ACD32001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EBF836B-5CDC-4B63-8682-3CC76186502A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173B370-E96B-40E9-9A81-29B275AD2C4C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6D2DD44-D11D-4792-A01C-8626D62488F6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2614A88-4C70-4A5B-911F-D8C740F76CBD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54A05E9-895F-4AAD-B213-7AF22837A9EF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F756CEC-97B1-492E-AD7D-AED98A69DE7D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986C995-A2FD-408D-96F7-E00D3EE8F07E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B9C0D4E-30FF-485D-8560-B3BF773B4610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C8DEAE7-8E30-481F-BDC1-6F56CAA3D8AD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AA29AC3-FC28-4B79-A0C3-EDC16060801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4DD10-E413-4A45-8D74-78E4EB9262DC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B0AB578-0296-49A4-A294-D0F22ACDD831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6723030-D599-459B-BEFD-772BA1FC1193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10A77F4-5AC9-4231-9C61-296E96708107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C4AA640-F21C-4289-AD46-EA13D2A0836F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F34B3D0-892F-403B-B946-E4AEEF07F48E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F397D04-C24A-457C-B2BB-B02EA9ABC4EC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3E9B03D-42B8-4F66-B265-B3ED5419F39A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C14EE53-86AA-49D5-B595-0D1F7885BEA5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06493E6-9FA2-44C3-B0EB-77D96CCF754C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2BCCD40-8CEE-43AE-A6C9-6B3AC7DAD00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A1399-ADBB-490A-B947-75200CC7A204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E1644F8-2CB5-4B7B-9BF0-8148F9AC1368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F974831-2EC8-4665-AACF-4FE89602AF22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D5113EF-A563-4A56-B4E4-8741C4375D27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A774D04-C788-4F21-9A0E-312B8CABA0C7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4F26EAA-4533-468E-AEA5-3BB3E96B5D66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6E3AB4E-94AE-4A49-AF61-B4678E0B189C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D005222-682C-4EB8-BC32-344FF097D2DB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3DFC97B-3248-4E5F-B2B4-BC0153C87F5B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0798C9A-BAE9-4915-B915-8DDFD2E21080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DEFDB20-F87E-4279-8B7D-B161C67FFEA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B2460-8F61-4116-949F-40C47207C764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DA40330-B498-477B-AA77-59A052EA956A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AC6B02A-0877-4C3B-9503-DC313A15F229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E782A8-BE54-46FA-9CF6-06866999E2E2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8ABCFBA-F01A-4124-A02C-9588B0BE8D9A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2B51AA4-1C29-48CA-9663-B0249D9384CE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AF57C3-C565-42FE-AF74-DAE836321AB3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7799690-A26F-4E20-BDD7-A00DCC316A1D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7D4630C-CCBD-4C58-B8BC-4DEA87E55EB0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F0C6926-EB5C-40F9-A9C3-E9D0D0F23A45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FD54576-5125-413D-B6E4-15A97760E68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AF250-836E-4DAF-87FF-29361ABF715A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CAC439-A19B-48DD-BCB5-10C5107AFEE7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41F9B5-7C49-4E8B-A9E2-061653ED89AC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CFD1CAB-563E-44F1-AB8F-255CA7905168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087A39F-48FB-4419-9CE6-A6EE5ABACBF1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BFED45D-64CB-40AD-9FA8-2DE7EA657B81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82074BA-CB4D-4119-8A3C-9D8AAA350CD6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89A0D93-431F-46E8-922C-115BEA73A0D9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788F655-6398-4290-A5B4-6A011A3DC181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2A09641-5B65-4A77-9781-D7F51541FAC9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BDEA762-8B4E-4829-8D01-6AC8EBD3C57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5D7AC-9E07-4942-AEF0-8BAB751DE34B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1CD10AE-578D-477D-A621-9C5E000480D9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1BE975B-A99E-4D0F-A583-BB2CCD17E0DC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0C14C06-97E3-4B0D-A378-9C2237016A2A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CD60520-562F-42B2-A157-58F4A44404B3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C99BDE5-8488-4C75-B1C9-E1893C97079B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4BE0381-45BB-4273-837F-30CEB2FAAECC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6FD3793-AF08-45E6-89B9-CD6902C5CB92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13BD051-EC71-44E0-9526-16AA24D72EB5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B3875A7-CFE1-40B5-83D0-245748E958C4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9145BC2-C3E8-48C3-A87E-876830B5B30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B3162-A8A9-4A36-9D79-BE81F921B1A9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C367BAF-8CEC-4FE2-948D-DC28ABF0C4A2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3CC16EE-6672-4CB7-B7DF-5017C542CB79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7D379FE-9BE0-4494-8638-2374A3F88461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619A84B-18E3-4903-A7E5-C1CAEB108B41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5271E24-C5E4-44C6-9AAD-3D8C2B8A2B09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C128E49-D38E-4CAA-B07E-FC9AFD6E56BF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09BA472-37DB-45DF-9D0A-9D617A407F88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6551718-A355-412B-95BE-1C308EF40C8E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1C023A9-8047-4C11-99B2-DA1C20D0F99E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209BFBE-0406-4C08-977B-DEFFB29B0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392D1-C7B9-42B9-BDC6-A1774B4CF93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91B6F-418F-41B4-9394-DCE0B663A93D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88F3205-1ADA-432F-91FE-00CC696CD290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1545662-DE68-4503-91E1-97367B8BA0DD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BFF4539-EA17-41AA-9D96-AEF48E505FE9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4421B89-C508-456B-A2DA-D32CD39FC304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BE9B6E6-7F84-4C45-A479-04E182AF2397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0729D21-1436-4F9B-B79D-54DD19E5A370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B4A5291-837F-4BA9-936A-1303748708EE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57E769A-CD69-4AD6-8480-4B2065785DDA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A917948-103E-4193-AF9D-21DBBE067508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CB644C4-5B50-43F5-B65F-9ABF73BDE45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A8206-20E9-44D0-B69F-89A28F8AD686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947F9B9-AE1A-4DC1-99AE-E8F2AE25DB95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0BFA9A7-05F8-47EB-92A4-26B341E374B9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51CC659-ED2B-4B08-90B3-C026327074CC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7C7EA36-8BAF-4E85-975F-BA6BCD5FB048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4015AD3-66E7-4C00-ABD4-D0D697F3AC8A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B4F0018-1241-45E7-9152-11C12BF35C21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BE45815-D4A9-4187-B6B0-1341CC4416BD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CC8A1AD-DE3B-4B0C-943C-52FD2E2CAEEA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67C93ED-280C-45B9-92E0-5B9ECE90736F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27C09A0-0408-4991-B0F6-558CF6A620F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9F513-E304-4D25-8F0F-67036F7BBDA5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10DE673-42B4-41BB-B7B5-3B3E6D5EF31C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011BEC6-3F67-4693-8713-138265B5BF47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88C32B1-EC27-400C-908E-48AC0412EEF6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FBD9F89-99BF-461F-B62A-49B31DE5160F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DD8B409-C391-4E00-9A83-884BE7244328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A89D54D-B3C7-4B52-A65F-50C0D26896D0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F075179-89FF-4F6A-9807-DAA592D3D15C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3989535-9176-4172-B68F-B0D4E079DEE9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CE9A5A6-52ED-4946-8DDE-CEAB9FE2BD6F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7967D4E-E523-4B45-9B83-78C73B94796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7D9DFD-D117-4390-BB1B-800E25702401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414D2DD-6709-45CD-8F71-216B89DF5880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7C6EC22-AAAA-4D90-89F3-2D6A892A6FB2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00162F4-C58C-4976-8A32-347E1C8C2C7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390F2F-6097-4218-843F-993F1B58C12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5A5EA3-1D8F-4BAA-9874-16F35D61DB4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F1D77D-10A2-4A8B-B2A9-FF0186B8A8F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F1E77A-B50E-48BF-9C46-22A2FEAD7D3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14FF86-6758-40EF-A61A-C0A820AB73C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ABA28D-D5AC-4F1E-AFE4-0171B4D48E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9219D-EFF1-413F-A4FB-E80F89F82F0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DD920A-5EED-47F6-BFC1-3B7A70071A7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56DED7-5073-4FD2-8410-3C9EE86954E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FDAF95-502E-4C00-A8C2-E7335D7782A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A0FAB3-7B2E-41E7-84B3-0B1D249BF01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717F03-BAFC-432C-82C7-6ACA23DEB70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A64DA-FA22-42E7-80DB-D8E8F4B6033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89FD5-A202-4F4C-B7EC-55CA3308074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331B5-12CC-4E9D-84D4-955EF09618E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40DBE-6A60-4CC6-AF47-4D00F8D203E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17026-1E33-4758-B14C-69F3A76EF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9329C-0015-4D67-8B99-2B080F2870C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5FEAF-5DBB-493D-852A-1FE56BC9FBB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CF3B1-44D4-4CEA-9D0F-8E04CAD043E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994B4-A1F1-409D-B613-D66D4A17FF3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08A71-66C9-4AB9-B89E-8CB71FAE7CC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6FAB3-6C77-4397-A639-6A74C90C4EC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D75FA-3504-4C41-9967-EEEE8355716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8F43B-AA43-4AD8-9E5F-B656C4434B4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D8EE9C-95DB-469A-AEB2-FF89C85AF48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03D8CA-229F-42C9-83A4-B7E0263B3B1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A3AD70-3819-4B0D-91A5-9A8DD15D6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21.xml"/><Relationship Id="rId7" Type="http://schemas.openxmlformats.org/officeDocument/2006/relationships/slideLayout" Target="../slideLayouts/slideLayout422.xml"/><Relationship Id="rId8" Type="http://schemas.openxmlformats.org/officeDocument/2006/relationships/slideLayout" Target="../slideLayouts/slideLayout423.xml"/><Relationship Id="rId9" Type="http://schemas.openxmlformats.org/officeDocument/2006/relationships/slideLayout" Target="../slideLayouts/slideLayout424.xml"/><Relationship Id="rId10" Type="http://schemas.openxmlformats.org/officeDocument/2006/relationships/slideLayout" Target="../slideLayouts/slideLayout425.xml"/><Relationship Id="rId11" Type="http://schemas.openxmlformats.org/officeDocument/2006/relationships/slideLayout" Target="../slideLayouts/slideLayout426.xml"/><Relationship Id="rId12" Type="http://schemas.openxmlformats.org/officeDocument/2006/relationships/slideLayout" Target="../slideLayouts/slideLayout427.xml"/><Relationship Id="rId13" Type="http://schemas.openxmlformats.org/officeDocument/2006/relationships/slideLayout" Target="../slideLayouts/slideLayout428.xml"/><Relationship Id="rId14" Type="http://schemas.openxmlformats.org/officeDocument/2006/relationships/slideLayout" Target="../slideLayouts/slideLayout429.xml"/><Relationship Id="rId15" Type="http://schemas.openxmlformats.org/officeDocument/2006/relationships/slideLayout" Target="../slideLayouts/slideLayout430.xml"/><Relationship Id="rId16" Type="http://schemas.openxmlformats.org/officeDocument/2006/relationships/slideLayout" Target="../slideLayouts/slideLayout431.xml"/><Relationship Id="rId17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77.xml"/><Relationship Id="rId7" Type="http://schemas.openxmlformats.org/officeDocument/2006/relationships/slideLayout" Target="../slideLayouts/slideLayout578.xml"/><Relationship Id="rId8" Type="http://schemas.openxmlformats.org/officeDocument/2006/relationships/slideLayout" Target="../slideLayouts/slideLayout579.xml"/><Relationship Id="rId9" Type="http://schemas.openxmlformats.org/officeDocument/2006/relationships/slideLayout" Target="../slideLayouts/slideLayout580.xml"/><Relationship Id="rId10" Type="http://schemas.openxmlformats.org/officeDocument/2006/relationships/slideLayout" Target="../slideLayouts/slideLayout581.xml"/><Relationship Id="rId11" Type="http://schemas.openxmlformats.org/officeDocument/2006/relationships/slideLayout" Target="../slideLayouts/slideLayout582.xml"/><Relationship Id="rId12" Type="http://schemas.openxmlformats.org/officeDocument/2006/relationships/slideLayout" Target="../slideLayouts/slideLayout583.xml"/><Relationship Id="rId13" Type="http://schemas.openxmlformats.org/officeDocument/2006/relationships/slideLayout" Target="../slideLayouts/slideLayout584.xml"/><Relationship Id="rId14" Type="http://schemas.openxmlformats.org/officeDocument/2006/relationships/slideLayout" Target="../slideLayouts/slideLayout585.xml"/><Relationship Id="rId15" Type="http://schemas.openxmlformats.org/officeDocument/2006/relationships/slideLayout" Target="../slideLayouts/slideLayout586.xml"/><Relationship Id="rId16" Type="http://schemas.openxmlformats.org/officeDocument/2006/relationships/slideLayout" Target="../slideLayouts/slideLayout587.xml"/><Relationship Id="rId17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C07F-937F-4C9E-92CA-7C17FFB2FD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8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8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1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1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D9B6-6215-442D-AE1A-A639F7F404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1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2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55A8-800F-4B43-840F-849DAFF485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2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2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1843-26BC-4402-9A92-E6CAFA861E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2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2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F820-B4EF-4F9C-8A3F-AD52D6C55A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2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sldNum" idx="2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C714-DC26-4890-A254-12F7902E30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ftr" idx="2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sldNum" idx="2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8D76-90E8-465C-82EA-5E29634D58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ftr" idx="2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sldNum" idx="3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6578-855A-478D-ADD5-5199A5884F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ftr" idx="3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sldNum" idx="3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96F0-7F07-4BAA-8163-D8FB32ACFD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ftr" idx="3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sldNum" idx="3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3CA6-B54C-4F89-BEA4-5203126098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75E8-3790-4742-8290-74F4CF1BC7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ftr" idx="3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sldNum" idx="3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4270-BB0A-4B7A-A306-6A6043ED0B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ftr" idx="3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3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F15A-ADA2-4B9D-BA00-4EEB19F872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3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sldNum" idx="4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6525-E52C-43CC-A435-8D026ECD4A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ftr" idx="4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sldNum" idx="4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5F4D-8875-4CDA-8729-50A6B17AF5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4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sldNum" idx="4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3BB4-BDAD-4C86-8902-40F4E71062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ftr" idx="4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4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748B-B8CC-4714-A1D0-77DF208CA2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4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4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CF25-1845-4340-B399-FDF8DFF3A6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ftr" idx="4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5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8BA4-6E4B-453D-A05B-4A4C24328A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ftr" idx="5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5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008A-08EB-4F33-8D00-B07513A1FC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0D8F-9A9D-4370-9D92-38336580E6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ftr" idx="5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sldNum" idx="5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8CE3-36B2-4C02-8123-F68BFC6F52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ftr" idx="5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sldNum" idx="5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51AF-57AB-4E79-B89C-21FE416619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ftr" idx="5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sldNum" idx="5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5138-1DBC-4075-8C46-7D69DBB2EA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ftr" idx="5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sldNum" idx="6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C1E2-8064-4CCA-95E4-11E134FAF0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ftr" idx="6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sldNum" idx="6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4311-308B-4105-98EA-8059B1C5A6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ftr" idx="6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sldNum" idx="6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25E2-9E60-46C4-9CF7-B49A2E3D08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8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9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6"/>
    <p:sldLayoutId id="2147484105" r:id="rId7"/>
    <p:sldLayoutId id="2147484106" r:id="rId8"/>
    <p:sldLayoutId id="2147484107" r:id="rId9"/>
    <p:sldLayoutId id="2147484108" r:id="rId10"/>
    <p:sldLayoutId id="2147484109" r:id="rId11"/>
    <p:sldLayoutId id="2147484110" r:id="rId12"/>
    <p:sldLayoutId id="2147484111" r:id="rId13"/>
    <p:sldLayoutId id="2147484112" r:id="rId14"/>
    <p:sldLayoutId id="2147484113" r:id="rId15"/>
    <p:sldLayoutId id="2147484114" r:id="rId16"/>
    <p:sldLayoutId id="2147484115" r:id="rId17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ftr" idx="6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sldNum" idx="6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64E4-0E2E-46CF-B7EE-1678CF0C9A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 type="ftr" idx="6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 type="sldNum" idx="6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28BE-63E2-4FE7-A345-450041FAF7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ftr" idx="6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sldNum" idx="7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3897-F8B6-4166-ADEE-23A41BB8F1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991D-3D85-4C4D-AA26-827BB18CC1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 type="ftr" idx="7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 type="sldNum" idx="7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A0F6-4159-41DB-8CCA-442C5CED73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 type="ftr" idx="7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 type="sldNum" idx="7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5AA3-826B-4492-87C6-E883168C92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ftr" idx="7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sldNum" idx="7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F807-C3E1-4A3F-B039-CD1765B504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 type="ftr" idx="7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 type="sldNum" idx="7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EF38-A99F-4291-9490-37BFED77B4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ftr" idx="7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sldNum" idx="8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7AAE-06F4-49AE-B79B-F86E6E3589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ftr" idx="8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sldNum" idx="8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55F6-9D73-447B-90F8-668BC10EA9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 type="ftr" idx="8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 type="sldNum" idx="8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2EEA-3CF5-4B7A-9BE9-B3CAEC9D0B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 type="ftr" idx="8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 type="sldNum" idx="8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6B4E-19B2-4876-81E7-E90EC481E8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ftr" idx="8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sldNum" idx="8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9F61-06CF-4CD2-82FD-C4DE88022D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43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4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244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244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6"/>
    <p:sldLayoutId id="2147484274" r:id="rId7"/>
    <p:sldLayoutId id="2147484275" r:id="rId8"/>
    <p:sldLayoutId id="2147484276" r:id="rId9"/>
    <p:sldLayoutId id="2147484277" r:id="rId10"/>
    <p:sldLayoutId id="2147484278" r:id="rId11"/>
    <p:sldLayoutId id="2147484279" r:id="rId12"/>
    <p:sldLayoutId id="2147484280" r:id="rId13"/>
    <p:sldLayoutId id="2147484281" r:id="rId14"/>
    <p:sldLayoutId id="2147484282" r:id="rId15"/>
    <p:sldLayoutId id="2147484283" r:id="rId16"/>
    <p:sldLayoutId id="2147484284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ftr" idx="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Num" idx="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9429-0395-4C9A-9A43-7D8A2B4797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4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 type="ftr" idx="8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 type="sldNum" idx="9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2664-4EB4-4E8D-9ACC-50F78A902F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 type="ftr" idx="9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 type="sldNum" idx="9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952D-08E8-49F9-BC27-2D4AC74DA1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 type="ftr" idx="9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 type="sldNum" idx="9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6321-DDEF-4910-BEF5-3C93D44485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 type="ftr" idx="9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 type="sldNum" idx="9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CF5A-9A67-40D1-AF2C-1B597E23D0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 type="ftr" idx="9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 type="sldNum" idx="9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270A-C975-4A5F-88DB-55C3C9E350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ftr" idx="9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 type="sldNum" idx="10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6DE7-9950-40FE-B11F-FBB75033B3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 type="ftr" idx="10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 type="sldNum" idx="10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B543-C2E5-4721-836A-6598C507A9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 type="ftr" idx="10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 type="sldNum" idx="10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7108-0F82-4CBF-933A-E6EECD0376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 type="ftr" idx="10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 type="sldNum" idx="10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C27E-312F-4727-9C52-2EF99B36CF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 type="ftr" idx="10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 type="sldNum" idx="10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C654-5E8A-45EE-A8B2-34B7DB8F28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AD8D-35C9-460C-B3EF-6047369A18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 type="ftr" idx="10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 type="sldNum" idx="1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2BA1-82E5-4519-A045-3CCD0796B4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 type="ftr" idx="1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 type="sldNum" idx="1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3678-6BEF-4F89-B3EE-3F49078FC5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4D85-4EEF-44FF-986C-0C59227CFD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45684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8B99-49D4-40FD-935A-CFC01FBBF0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9709-3838-47AA-A579-E5E5C8C9B9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jpeg"/><Relationship Id="rId3" Type="http://schemas.openxmlformats.org/officeDocument/2006/relationships/image" Target="../media/image16.jpe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33.png"/><Relationship Id="rId5" Type="http://schemas.openxmlformats.org/officeDocument/2006/relationships/image" Target="../media/image59.pn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9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9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9" name="Text Box 16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боруд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Text Box 5"/>
          <p:cNvSpPr/>
          <p:nvPr/>
        </p:nvSpPr>
        <p:spPr>
          <a:xfrm>
            <a:off x="495360" y="2013120"/>
            <a:ext cx="5829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аран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ть ли, куда поста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4" name="Picture 7" descr="equip_mass_spec_cdc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267080" y="1523880"/>
            <a:ext cx="4637160" cy="3399120"/>
          </a:xfrm>
          <a:prstGeom prst="rect">
            <a:avLst/>
          </a:prstGeom>
          <a:ln w="0">
            <a:noFill/>
          </a:ln>
        </p:spPr>
      </p:pic>
      <p:pic>
        <p:nvPicPr>
          <p:cNvPr id="3245" name="Picture 4" descr="MCj00787110000[1]"/>
          <p:cNvPicPr/>
          <p:nvPr/>
        </p:nvPicPr>
        <p:blipFill>
          <a:blip r:embed="rId2"/>
          <a:stretch/>
        </p:blipFill>
        <p:spPr>
          <a:xfrm>
            <a:off x="6477120" y="1828800"/>
            <a:ext cx="1603080" cy="3886200"/>
          </a:xfrm>
          <a:prstGeom prst="rect">
            <a:avLst/>
          </a:prstGeom>
          <a:ln w="0">
            <a:noFill/>
          </a:ln>
        </p:spPr>
      </p:pic>
      <p:pic>
        <p:nvPicPr>
          <p:cNvPr id="3246" name="Picture 10" descr="4_fit"/>
          <p:cNvPicPr/>
          <p:nvPr/>
        </p:nvPicPr>
        <p:blipFill>
          <a:blip r:embed="rId3"/>
          <a:stretch/>
        </p:blipFill>
        <p:spPr>
          <a:xfrm>
            <a:off x="4038480" y="2895480"/>
            <a:ext cx="2524320" cy="2371680"/>
          </a:xfrm>
          <a:prstGeom prst="rect">
            <a:avLst/>
          </a:prstGeom>
          <a:ln w="0">
            <a:noFill/>
          </a:ln>
        </p:spPr>
      </p:pic>
      <p:sp>
        <p:nvSpPr>
          <p:cNvPr id="324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6FD9-B1B1-4B88-A8A7-CE5EDFC2E2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2"/>
          <p:cNvSpPr/>
          <p:nvPr/>
        </p:nvSpPr>
        <p:spPr>
          <a:xfrm>
            <a:off x="533520" y="40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436320"/>
            <a:ext cx="807732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80880" y="1300320"/>
            <a:ext cx="838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упк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ренд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нтрализованная закуп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ая по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словия договора на поста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2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743200" y="3962520"/>
            <a:ext cx="3657600" cy="2384280"/>
          </a:xfrm>
          <a:prstGeom prst="rect">
            <a:avLst/>
          </a:prstGeom>
          <a:ln w="0">
            <a:noFill/>
          </a:ln>
        </p:spPr>
      </p:pic>
      <p:sp>
        <p:nvSpPr>
          <p:cNvPr id="325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7D8E-885E-446C-B228-72D95C355D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суждение условий приобретения</a:t>
            </a:r>
            <a:br>
              <a:rPr sz="3600"/>
            </a:b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228240" y="2084040"/>
            <a:ext cx="6553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ическую схе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ю о программном         обеспеч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ок запасных час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по эксплуа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ку производител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ытательный пери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7" name="Picture 4" descr="FIL4489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6218280" y="1519200"/>
            <a:ext cx="2432160" cy="2127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3258" name="Picture 5" descr="manuals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485040" y="2943360"/>
            <a:ext cx="2278080" cy="1636560"/>
          </a:xfrm>
          <a:prstGeom prst="rect">
            <a:avLst/>
          </a:prstGeom>
          <a:ln w="0">
            <a:noFill/>
          </a:ln>
        </p:spPr>
      </p:pic>
      <p:grpSp>
        <p:nvGrpSpPr>
          <p:cNvPr id="3259" name="Group 6"/>
          <p:cNvGrpSpPr/>
          <p:nvPr/>
        </p:nvGrpSpPr>
        <p:grpSpPr>
          <a:xfrm>
            <a:off x="6934320" y="3781440"/>
            <a:ext cx="1753920" cy="1704600"/>
            <a:chOff x="6934320" y="3781440"/>
            <a:chExt cx="1753920" cy="1704600"/>
          </a:xfrm>
        </p:grpSpPr>
        <p:sp>
          <p:nvSpPr>
            <p:cNvPr id="3260" name="Gear"/>
            <p:cNvSpPr/>
            <p:nvPr/>
          </p:nvSpPr>
          <p:spPr>
            <a:xfrm>
              <a:off x="7906680" y="3781440"/>
              <a:ext cx="781560" cy="781560"/>
            </a:xfrm>
            <a:custGeom>
              <a:avLst/>
              <a:gdLst>
                <a:gd name="textAreaLeft" fmla="*/ 158040 w 781560"/>
                <a:gd name="textAreaRight" fmla="*/ 645480 w 781560"/>
                <a:gd name="textAreaTop" fmla="*/ 142920 h 781560"/>
                <a:gd name="textAreaBottom" fmla="*/ 63864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AutoShape 8"/>
            <p:cNvSpPr/>
            <p:nvPr/>
          </p:nvSpPr>
          <p:spPr>
            <a:xfrm>
              <a:off x="6934320" y="4103640"/>
              <a:ext cx="934200" cy="934560"/>
            </a:xfrm>
            <a:custGeom>
              <a:avLst/>
              <a:gdLst>
                <a:gd name="textAreaLeft" fmla="*/ 188640 w 934200"/>
                <a:gd name="textAreaRight" fmla="*/ 771480 w 934200"/>
                <a:gd name="textAreaTop" fmla="*/ 171360 h 934560"/>
                <a:gd name="textAreaBottom" fmla="*/ 763200 h 9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AutoShape 9"/>
            <p:cNvSpPr/>
            <p:nvPr/>
          </p:nvSpPr>
          <p:spPr>
            <a:xfrm>
              <a:off x="7540200" y="4448160"/>
              <a:ext cx="1038600" cy="1037880"/>
            </a:xfrm>
            <a:custGeom>
              <a:avLst/>
              <a:gdLst>
                <a:gd name="textAreaLeft" fmla="*/ 210600 w 1038600"/>
                <a:gd name="textAreaRight" fmla="*/ 858240 w 1038600"/>
                <a:gd name="textAreaTop" fmla="*/ 190080 h 1037880"/>
                <a:gd name="textAreaBottom" fmla="*/ 847080 h 10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3" name="Rectangle 10"/>
          <p:cNvSpPr/>
          <p:nvPr/>
        </p:nvSpPr>
        <p:spPr>
          <a:xfrm>
            <a:off x="504000" y="124920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роси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D1A6-3614-401D-B25D-E5F187B52A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380880" y="587520"/>
            <a:ext cx="83822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 установкой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7" name="Text Box 16"/>
          <p:cNvSpPr/>
          <p:nvPr/>
        </p:nvSpPr>
        <p:spPr>
          <a:xfrm>
            <a:off x="533520" y="1905120"/>
            <a:ext cx="5562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учите подтверждение обязательств поставщика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в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письменной фор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контрольный сп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8" name="Picture 17" descr="MCj04349290000[1]"/>
          <p:cNvPicPr/>
          <p:nvPr/>
        </p:nvPicPr>
        <p:blipFill>
          <a:blip r:embed="rId1"/>
          <a:stretch/>
        </p:blipFill>
        <p:spPr>
          <a:xfrm>
            <a:off x="5410080" y="314496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3269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2855-E234-4F86-818E-E10A791C6E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82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304920" y="1382400"/>
            <a:ext cx="85341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учите производителю провести установку и настройку, если это возмож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3" name="Picture 4" descr="equip_set-up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3274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273560"/>
            <a:ext cx="1797120" cy="1822320"/>
          </a:xfrm>
          <a:prstGeom prst="rect">
            <a:avLst/>
          </a:prstGeom>
          <a:ln w="0">
            <a:noFill/>
          </a:ln>
        </p:spPr>
      </p:pic>
      <p:sp>
        <p:nvSpPr>
          <p:cNvPr id="327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08C0-9D3F-4881-9E9C-03F7FFD24C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Rectangle 1"/>
          <p:cNvSpPr/>
          <p:nvPr/>
        </p:nvSpPr>
        <p:spPr>
          <a:xfrm>
            <a:off x="304920" y="3025800"/>
            <a:ext cx="4267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пользуйт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пока установка полностью не заверш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/>
          </p:nvPr>
        </p:nvSpPr>
        <p:spPr>
          <a:xfrm>
            <a:off x="75960" y="1676520"/>
            <a:ext cx="5105160" cy="46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содержимое коробк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делайте копию программного обеспечения, если оно является                           частью систем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9" name="Picture 4" descr="MCj00788110000[1]"/>
          <p:cNvPicPr/>
          <p:nvPr/>
        </p:nvPicPr>
        <p:blipFill>
          <a:blip r:embed="rId1"/>
          <a:stretch/>
        </p:blipFill>
        <p:spPr>
          <a:xfrm>
            <a:off x="5181480" y="1757520"/>
            <a:ext cx="3505320" cy="3271680"/>
          </a:xfrm>
          <a:prstGeom prst="rect">
            <a:avLst/>
          </a:prstGeom>
          <a:ln w="0">
            <a:noFill/>
          </a:ln>
        </p:spPr>
      </p:pic>
      <p:sp>
        <p:nvSpPr>
          <p:cNvPr id="328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0266-F3A5-49D4-B053-8191E1D51D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Rectangle 5"/>
          <p:cNvSpPr/>
          <p:nvPr/>
        </p:nvSpPr>
        <p:spPr>
          <a:xfrm>
            <a:off x="380880" y="5130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9ACC-4FE5-4D37-A39F-376C8ACA85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4" name="SmartArt Placeholder 281602"/>
          <p:cNvGrpSpPr/>
          <p:nvPr/>
        </p:nvGrpSpPr>
        <p:grpSpPr>
          <a:xfrm>
            <a:off x="228600" y="1219320"/>
            <a:ext cx="8686080" cy="2513880"/>
            <a:chOff x="228600" y="1219320"/>
            <a:chExt cx="8686080" cy="2513880"/>
          </a:xfrm>
        </p:grpSpPr>
        <p:cxnSp>
          <p:nvCxnSpPr>
            <p:cNvPr id="3285" name="_s1028"/>
            <p:cNvCxnSpPr/>
            <p:nvPr/>
          </p:nvCxnSpPr>
          <p:spPr>
            <a:xfrm flipV="1" rot="16200000">
              <a:off x="5812560" y="1277280"/>
              <a:ext cx="398880" cy="30196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6" name="_s1029"/>
            <p:cNvCxnSpPr>
              <a:stCxn id="3287" idx="0"/>
              <a:endCxn id="3288" idx="0"/>
            </p:cNvCxnSpPr>
            <p:nvPr/>
          </p:nvCxnSpPr>
          <p:spPr>
            <a:xfrm flipH="1" flipV="1">
              <a:off x="4532040" y="2211120"/>
              <a:ext cx="3240" cy="516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9" name="_s1030"/>
            <p:cNvCxnSpPr/>
            <p:nvPr/>
          </p:nvCxnSpPr>
          <p:spPr>
            <a:xfrm flipH="1" flipV="1" rot="5400000">
              <a:off x="2773080" y="1340280"/>
              <a:ext cx="542160" cy="302292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290" name="_s1031"/>
            <p:cNvSpPr/>
            <p:nvPr/>
          </p:nvSpPr>
          <p:spPr>
            <a:xfrm>
              <a:off x="2400120" y="1219320"/>
              <a:ext cx="434304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ffff00"/>
                  </a:solidFill>
                  <a:latin typeface="Arial"/>
                </a:rPr>
                <a:t>Инвентарная запис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_s1032"/>
            <p:cNvSpPr/>
            <p:nvPr/>
          </p:nvSpPr>
          <p:spPr>
            <a:xfrm>
              <a:off x="228600" y="2727720"/>
              <a:ext cx="260568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либро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_s1033"/>
            <p:cNvSpPr/>
            <p:nvPr/>
          </p:nvSpPr>
          <p:spPr>
            <a:xfrm>
              <a:off x="3123720" y="2727720"/>
              <a:ext cx="2823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ерифик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_s1034"/>
            <p:cNvSpPr/>
            <p:nvPr/>
          </p:nvSpPr>
          <p:spPr>
            <a:xfrm>
              <a:off x="6173640" y="2727720"/>
              <a:ext cx="274104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перацио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процедуры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Picture 11"/>
            <p:cNvSpPr/>
            <p:nvPr/>
          </p:nvSpPr>
          <p:spPr>
            <a:xfrm>
              <a:off x="309960" y="303480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Picture 12"/>
            <p:cNvSpPr/>
            <p:nvPr/>
          </p:nvSpPr>
          <p:spPr>
            <a:xfrm>
              <a:off x="3371400" y="3034800"/>
              <a:ext cx="42192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Picture 13"/>
            <p:cNvSpPr/>
            <p:nvPr/>
          </p:nvSpPr>
          <p:spPr>
            <a:xfrm>
              <a:off x="6351480" y="296532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6" name="Rectangle 15"/>
          <p:cNvSpPr/>
          <p:nvPr/>
        </p:nvSpPr>
        <p:spPr>
          <a:xfrm>
            <a:off x="1828800" y="4191120"/>
            <a:ext cx="54100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16"/>
          <p:cNvSpPr/>
          <p:nvPr/>
        </p:nvSpPr>
        <p:spPr>
          <a:xfrm>
            <a:off x="1447920" y="5562720"/>
            <a:ext cx="59436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Text Box 17"/>
          <p:cNvSpPr/>
          <p:nvPr/>
        </p:nvSpPr>
        <p:spPr>
          <a:xfrm>
            <a:off x="2362320" y="4267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грамма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Text Box 18"/>
          <p:cNvSpPr/>
          <p:nvPr/>
        </p:nvSpPr>
        <p:spPr>
          <a:xfrm>
            <a:off x="144792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учение ВСЕХ опер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AutoShape 19"/>
          <p:cNvSpPr/>
          <p:nvPr/>
        </p:nvSpPr>
        <p:spPr>
          <a:xfrm>
            <a:off x="419112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AutoShape 20"/>
          <p:cNvSpPr/>
          <p:nvPr/>
        </p:nvSpPr>
        <p:spPr>
          <a:xfrm>
            <a:off x="419112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AutoShape 21"/>
          <p:cNvSpPr/>
          <p:nvPr/>
        </p:nvSpPr>
        <p:spPr>
          <a:xfrm>
            <a:off x="4114800" y="487692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2" name="Picture 22" descr="FIL20003"/>
          <p:cNvPicPr/>
          <p:nvPr/>
        </p:nvPicPr>
        <p:blipFill>
          <a:blip r:embed="rId1"/>
          <a:stretch/>
        </p:blipFill>
        <p:spPr>
          <a:xfrm>
            <a:off x="304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3" name="Picture 23" descr="FIL20003"/>
          <p:cNvPicPr/>
          <p:nvPr/>
        </p:nvPicPr>
        <p:blipFill>
          <a:blip r:embed="rId2"/>
          <a:stretch/>
        </p:blipFill>
        <p:spPr>
          <a:xfrm>
            <a:off x="198108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После установки оборудования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05" name="Picture 22" descr="FIL20003"/>
          <p:cNvPicPr/>
          <p:nvPr/>
        </p:nvPicPr>
        <p:blipFill>
          <a:blip r:embed="rId3"/>
          <a:stretch/>
        </p:blipFill>
        <p:spPr>
          <a:xfrm>
            <a:off x="3193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6" name="Picture 22" descr="FIL20003"/>
          <p:cNvPicPr/>
          <p:nvPr/>
        </p:nvPicPr>
        <p:blipFill>
          <a:blip r:embed="rId4"/>
          <a:stretch/>
        </p:blipFill>
        <p:spPr>
          <a:xfrm>
            <a:off x="6248520" y="2997360"/>
            <a:ext cx="387360" cy="355320"/>
          </a:xfrm>
          <a:prstGeom prst="rect">
            <a:avLst/>
          </a:prstGeom>
          <a:ln w="0">
            <a:noFill/>
          </a:ln>
        </p:spPr>
      </p:pic>
      <p:sp>
        <p:nvSpPr>
          <p:cNvPr id="330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либровк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первую калибро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андартные растворы или калибра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йте инструкциям производител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овите регулярность  проведения калибров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E362-43E3-4A0E-8485-D7A0747998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2" name="Picture 4" descr="equip_calibrate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410080" y="1523880"/>
            <a:ext cx="352440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ценка работ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4" name="AutoShape 3"/>
          <p:cNvSpPr/>
          <p:nvPr/>
        </p:nvSpPr>
        <p:spPr>
          <a:xfrm flipV="1">
            <a:off x="5105520" y="533160"/>
            <a:ext cx="3352680" cy="1371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ст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вестных проб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нализ результа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5" name="Picture 4" descr="equipment_big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4479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316" name="AutoShape 5"/>
          <p:cNvSpPr/>
          <p:nvPr/>
        </p:nvSpPr>
        <p:spPr>
          <a:xfrm>
            <a:off x="4952880" y="2057400"/>
            <a:ext cx="388620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AutoShape 6"/>
          <p:cNvSpPr/>
          <p:nvPr/>
        </p:nvSpPr>
        <p:spPr>
          <a:xfrm>
            <a:off x="4724280" y="4267080"/>
            <a:ext cx="4191120" cy="221004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Text Box 7"/>
          <p:cNvSpPr/>
          <p:nvPr/>
        </p:nvSpPr>
        <p:spPr>
          <a:xfrm>
            <a:off x="4876920" y="4741920"/>
            <a:ext cx="40384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алидация с параллельным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б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Text Box 8"/>
          <p:cNvSpPr/>
          <p:nvPr/>
        </p:nvSpPr>
        <p:spPr>
          <a:xfrm>
            <a:off x="5638680" y="2133720"/>
            <a:ext cx="2819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верка стабильности аппаратов с контролируемой температур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AutoShape 9"/>
          <p:cNvSpPr/>
          <p:nvPr/>
        </p:nvSpPr>
        <p:spPr>
          <a:xfrm rot="5400000">
            <a:off x="570960" y="1257120"/>
            <a:ext cx="3962160" cy="4343400"/>
          </a:xfrm>
          <a:custGeom>
            <a:avLst/>
            <a:gdLst>
              <a:gd name="textAreaLeft" fmla="*/ 396000 w 3962160"/>
              <a:gd name="textAreaRight" fmla="*/ 3566160 w 3962160"/>
              <a:gd name="textAreaTop" fmla="*/ 2481840 h 4343400"/>
              <a:gd name="textAreaBottom" fmla="*/ 3723120 h 4343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WordArt 10"/>
          <p:cNvSpPr txBox="1"/>
          <p:nvPr/>
        </p:nvSpPr>
        <p:spPr>
          <a:xfrm rot="565800">
            <a:off x="990360" y="2752560"/>
            <a:ext cx="35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Новое Оборудован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32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2AEA-5D41-445E-AAF1-1E12AB9F18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рка рабо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09588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ируйте параметры оборудов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улярно, ежеднев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недельно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месяч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рупного ремо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пература в термоста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либровка длины вол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блица температурного режима  автокла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6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A2D6-66BE-4DA0-8E7D-7D1541356A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8" name="Picture 8" descr="thermom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329" name="Picture 10" descr="j0401462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330" name="Picture 12" descr="j0426052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331" name="Picture 15" descr="MCj04326640000[1]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228600" y="1044360"/>
            <a:ext cx="86868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эт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ужно учитывать при покупке оборудова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сти выбор и приобретение нов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ставные части программы обслуживания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сновать необходимость программы обслуживания оборудования 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проводить списание старого или устаревше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279C-77BD-4E75-A489-013CA8B072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филактическое обслужи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0199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ая чист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строй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мена частей        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4" name="Picture 4" descr="microscope_cleaning"/>
          <p:cNvPicPr/>
          <p:nvPr/>
        </p:nvPicPr>
        <p:blipFill>
          <a:blip r:embed="rId1"/>
          <a:stretch/>
        </p:blipFill>
        <p:spPr>
          <a:xfrm>
            <a:off x="5543640" y="1981080"/>
            <a:ext cx="3295440" cy="2943360"/>
          </a:xfrm>
          <a:prstGeom prst="rect">
            <a:avLst/>
          </a:prstGeom>
          <a:ln w="0">
            <a:noFill/>
          </a:ln>
        </p:spPr>
      </p:pic>
      <p:pic>
        <p:nvPicPr>
          <p:cNvPr id="3335" name="Picture 4" descr="MCj02295450000[1]"/>
          <p:cNvPicPr/>
          <p:nvPr/>
        </p:nvPicPr>
        <p:blipFill>
          <a:blip r:embed="rId2"/>
          <a:stretch/>
        </p:blipFill>
        <p:spPr>
          <a:xfrm>
            <a:off x="4781520" y="2590920"/>
            <a:ext cx="2416320" cy="3276360"/>
          </a:xfrm>
          <a:prstGeom prst="rect">
            <a:avLst/>
          </a:prstGeom>
          <a:ln w="0">
            <a:noFill/>
          </a:ln>
        </p:spPr>
      </p:pic>
      <p:sp>
        <p:nvSpPr>
          <p:cNvPr id="333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A86A-CFF8-464B-87A0-652A89E94F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программы по обслуживани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197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сьменном виде правила и                       процед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0" name="Picture 4" descr="Equipment 1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800600" y="2341440"/>
            <a:ext cx="4038480" cy="3297240"/>
          </a:xfrm>
          <a:prstGeom prst="rect">
            <a:avLst/>
          </a:prstGeom>
          <a:ln w="0">
            <a:noFill/>
          </a:ln>
        </p:spPr>
      </p:pic>
      <p:sp>
        <p:nvSpPr>
          <p:cNvPr id="334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9F53-4260-4C0B-AA42-674D9EF897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аботайте план обслужи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822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ого экземпляр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я внедрит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 регулярного обслуживания, включающи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астот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д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заданий по обслу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ку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ярную замену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пасных час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5" name="Picture 4" descr="FIL15008"/>
          <p:cNvPicPr/>
          <p:nvPr/>
        </p:nvPicPr>
        <p:blipFill>
          <a:blip r:embed="rId1"/>
          <a:stretch/>
        </p:blipFill>
        <p:spPr>
          <a:xfrm>
            <a:off x="5562720" y="4114800"/>
            <a:ext cx="2514600" cy="2252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346" name="AutoShape 5"/>
          <p:cNvSpPr/>
          <p:nvPr/>
        </p:nvSpPr>
        <p:spPr>
          <a:xfrm>
            <a:off x="4038480" y="48769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Picture 6" descr="equipment_mod_3"/>
          <p:cNvPicPr/>
          <p:nvPr/>
        </p:nvPicPr>
        <p:blipFill>
          <a:blip r:embed="rId2"/>
          <a:stretch/>
        </p:blipFill>
        <p:spPr>
          <a:xfrm>
            <a:off x="990720" y="4267080"/>
            <a:ext cx="2819160" cy="1911600"/>
          </a:xfrm>
          <a:prstGeom prst="rect">
            <a:avLst/>
          </a:prstGeom>
          <a:ln w="0">
            <a:noFill/>
          </a:ln>
        </p:spPr>
      </p:pic>
      <p:sp>
        <p:nvSpPr>
          <p:cNvPr id="3348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02E6-549B-45E3-873A-C883C0C7E7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Footer Placeholder 12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18680" y="444240"/>
            <a:ext cx="712476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едите журнал инвентарного учет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277560" y="1523880"/>
            <a:ext cx="62751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аппара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омер модел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рийный номе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онахождени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покуп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ктная информация производителя и поставщ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рантия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 датой истечения гарант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асные час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2" name="Picture 6" descr="equip_id_book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326280" y="2021040"/>
            <a:ext cx="2665440" cy="2627280"/>
          </a:xfrm>
          <a:prstGeom prst="rect">
            <a:avLst/>
          </a:prstGeom>
          <a:ln w="0">
            <a:noFill/>
          </a:ln>
        </p:spPr>
      </p:pic>
      <p:grpSp>
        <p:nvGrpSpPr>
          <p:cNvPr id="3353" name="Group 51"/>
          <p:cNvGrpSpPr/>
          <p:nvPr/>
        </p:nvGrpSpPr>
        <p:grpSpPr>
          <a:xfrm>
            <a:off x="6324480" y="3967200"/>
            <a:ext cx="2590920" cy="2189160"/>
            <a:chOff x="6324480" y="3967200"/>
            <a:chExt cx="2590920" cy="2189160"/>
          </a:xfrm>
        </p:grpSpPr>
        <p:sp>
          <p:nvSpPr>
            <p:cNvPr id="3354" name="AutoShape 7"/>
            <p:cNvSpPr/>
            <p:nvPr/>
          </p:nvSpPr>
          <p:spPr>
            <a:xfrm>
              <a:off x="6324480" y="3967200"/>
              <a:ext cx="25909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9"/>
            <p:cNvSpPr/>
            <p:nvPr/>
          </p:nvSpPr>
          <p:spPr>
            <a:xfrm>
              <a:off x="6427800" y="3967200"/>
              <a:ext cx="2195640" cy="2109600"/>
            </a:xfrm>
            <a:custGeom>
              <a:avLst/>
              <a:gdLst>
                <a:gd name="textAreaLeft" fmla="*/ 0 w 2195640"/>
                <a:gd name="textAreaRight" fmla="*/ 2196000 w 2195640"/>
                <a:gd name="textAreaTop" fmla="*/ 0 h 2109600"/>
                <a:gd name="textAreaBottom" fmla="*/ 2109960 h 2109600"/>
              </a:gdLst>
              <a:ahLst/>
              <a:rect l="textAreaLeft" t="textAreaTop" r="textAreaRight" b="textAreaBottom"/>
              <a:pathLst>
                <a:path w="2766" h="2658">
                  <a:moveTo>
                    <a:pt x="0" y="331"/>
                  </a:moveTo>
                  <a:lnTo>
                    <a:pt x="369" y="2658"/>
                  </a:lnTo>
                  <a:lnTo>
                    <a:pt x="2766" y="2369"/>
                  </a:lnTo>
                  <a:lnTo>
                    <a:pt x="2738" y="0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0"/>
            <p:cNvSpPr/>
            <p:nvPr/>
          </p:nvSpPr>
          <p:spPr>
            <a:xfrm>
              <a:off x="6370560" y="5290920"/>
              <a:ext cx="1032120" cy="53820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301" h="679">
                  <a:moveTo>
                    <a:pt x="1237" y="0"/>
                  </a:moveTo>
                  <a:lnTo>
                    <a:pt x="102" y="347"/>
                  </a:lnTo>
                  <a:lnTo>
                    <a:pt x="0" y="679"/>
                  </a:lnTo>
                  <a:lnTo>
                    <a:pt x="1084" y="275"/>
                  </a:lnTo>
                  <a:lnTo>
                    <a:pt x="1301" y="115"/>
                  </a:lnTo>
                  <a:lnTo>
                    <a:pt x="1237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1"/>
            <p:cNvSpPr/>
            <p:nvPr/>
          </p:nvSpPr>
          <p:spPr>
            <a:xfrm>
              <a:off x="7149960" y="4841640"/>
              <a:ext cx="1765440" cy="1314720"/>
            </a:xfrm>
            <a:custGeom>
              <a:avLst/>
              <a:gdLst>
                <a:gd name="textAreaLeft" fmla="*/ 0 w 1765440"/>
                <a:gd name="textAreaRight" fmla="*/ 1765800 w 1765440"/>
                <a:gd name="textAreaTop" fmla="*/ 0 h 1314720"/>
                <a:gd name="textAreaBottom" fmla="*/ 1315080 h 1314720"/>
              </a:gdLst>
              <a:ahLst/>
              <a:rect l="textAreaLeft" t="textAreaTop" r="textAreaRight" b="textAreaBottom"/>
              <a:pathLst>
                <a:path w="2223" h="1656">
                  <a:moveTo>
                    <a:pt x="1840" y="0"/>
                  </a:moveTo>
                  <a:lnTo>
                    <a:pt x="0" y="868"/>
                  </a:lnTo>
                  <a:lnTo>
                    <a:pt x="3" y="871"/>
                  </a:lnTo>
                  <a:lnTo>
                    <a:pt x="13" y="881"/>
                  </a:lnTo>
                  <a:lnTo>
                    <a:pt x="29" y="894"/>
                  </a:lnTo>
                  <a:lnTo>
                    <a:pt x="49" y="904"/>
                  </a:lnTo>
                  <a:lnTo>
                    <a:pt x="74" y="912"/>
                  </a:lnTo>
                  <a:lnTo>
                    <a:pt x="100" y="914"/>
                  </a:lnTo>
                  <a:lnTo>
                    <a:pt x="130" y="904"/>
                  </a:lnTo>
                  <a:lnTo>
                    <a:pt x="159" y="882"/>
                  </a:lnTo>
                  <a:lnTo>
                    <a:pt x="1422" y="1656"/>
                  </a:lnTo>
                  <a:lnTo>
                    <a:pt x="2223" y="51"/>
                  </a:lnTo>
                  <a:lnTo>
                    <a:pt x="184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12"/>
            <p:cNvSpPr/>
            <p:nvPr/>
          </p:nvSpPr>
          <p:spPr>
            <a:xfrm>
              <a:off x="6324480" y="4360680"/>
              <a:ext cx="1273320" cy="132552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1325520"/>
                <a:gd name="textAreaBottom" fmla="*/ 1325880 h 1325520"/>
              </a:gdLst>
              <a:ahLst/>
              <a:rect l="textAreaLeft" t="textAreaTop" r="textAreaRight" b="textAreaBottom"/>
              <a:pathLst>
                <a:path w="1604" h="1669">
                  <a:moveTo>
                    <a:pt x="1171" y="1395"/>
                  </a:moveTo>
                  <a:lnTo>
                    <a:pt x="1120" y="1380"/>
                  </a:lnTo>
                  <a:lnTo>
                    <a:pt x="225" y="1669"/>
                  </a:lnTo>
                  <a:lnTo>
                    <a:pt x="0" y="1367"/>
                  </a:lnTo>
                  <a:lnTo>
                    <a:pt x="635" y="0"/>
                  </a:lnTo>
                  <a:lnTo>
                    <a:pt x="1604" y="187"/>
                  </a:lnTo>
                  <a:lnTo>
                    <a:pt x="1171" y="1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13"/>
            <p:cNvSpPr/>
            <p:nvPr/>
          </p:nvSpPr>
          <p:spPr>
            <a:xfrm>
              <a:off x="7253280" y="4332240"/>
              <a:ext cx="1525680" cy="167472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1674720"/>
                <a:gd name="textAreaBottom" fmla="*/ 1675080 h 1674720"/>
              </a:gdLst>
              <a:ahLst/>
              <a:rect l="textAreaLeft" t="textAreaTop" r="textAreaRight" b="textAreaBottom"/>
              <a:pathLst>
                <a:path w="1921" h="2111">
                  <a:moveTo>
                    <a:pt x="1717" y="28"/>
                  </a:moveTo>
                  <a:lnTo>
                    <a:pt x="1848" y="0"/>
                  </a:lnTo>
                  <a:lnTo>
                    <a:pt x="1921" y="593"/>
                  </a:lnTo>
                  <a:lnTo>
                    <a:pt x="1226" y="2111"/>
                  </a:lnTo>
                  <a:lnTo>
                    <a:pt x="0" y="1431"/>
                  </a:lnTo>
                  <a:lnTo>
                    <a:pt x="397" y="259"/>
                  </a:lnTo>
                  <a:lnTo>
                    <a:pt x="171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14"/>
            <p:cNvSpPr/>
            <p:nvPr/>
          </p:nvSpPr>
          <p:spPr>
            <a:xfrm>
              <a:off x="6445080" y="4411440"/>
              <a:ext cx="1152720" cy="1044720"/>
            </a:xfrm>
            <a:custGeom>
              <a:avLst/>
              <a:gdLst>
                <a:gd name="textAreaLeft" fmla="*/ 0 w 1152720"/>
                <a:gd name="textAreaRight" fmla="*/ 1152720 w 115272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1453" h="1316">
                  <a:moveTo>
                    <a:pt x="1453" y="123"/>
                  </a:moveTo>
                  <a:lnTo>
                    <a:pt x="565" y="0"/>
                  </a:lnTo>
                  <a:lnTo>
                    <a:pt x="0" y="1237"/>
                  </a:lnTo>
                  <a:lnTo>
                    <a:pt x="990" y="1316"/>
                  </a:lnTo>
                  <a:lnTo>
                    <a:pt x="1453" y="123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15"/>
            <p:cNvSpPr/>
            <p:nvPr/>
          </p:nvSpPr>
          <p:spPr>
            <a:xfrm>
              <a:off x="7230960" y="4325760"/>
              <a:ext cx="1528920" cy="140040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1400400"/>
                <a:gd name="textAreaBottom" fmla="*/ 1400400 h 1400400"/>
              </a:gdLst>
              <a:ahLst/>
              <a:rect l="textAreaLeft" t="textAreaTop" r="textAreaRight" b="textAreaBottom"/>
              <a:pathLst>
                <a:path w="1928" h="1764">
                  <a:moveTo>
                    <a:pt x="463" y="231"/>
                  </a:moveTo>
                  <a:lnTo>
                    <a:pt x="0" y="1424"/>
                  </a:lnTo>
                  <a:lnTo>
                    <a:pt x="1169" y="1764"/>
                  </a:lnTo>
                  <a:lnTo>
                    <a:pt x="1928" y="0"/>
                  </a:lnTo>
                  <a:lnTo>
                    <a:pt x="463" y="231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6"/>
            <p:cNvSpPr/>
            <p:nvPr/>
          </p:nvSpPr>
          <p:spPr>
            <a:xfrm>
              <a:off x="7513560" y="4576680"/>
              <a:ext cx="944640" cy="92376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191" h="1163">
                  <a:moveTo>
                    <a:pt x="348" y="54"/>
                  </a:moveTo>
                  <a:lnTo>
                    <a:pt x="0" y="1008"/>
                  </a:lnTo>
                  <a:lnTo>
                    <a:pt x="767" y="1163"/>
                  </a:lnTo>
                  <a:lnTo>
                    <a:pt x="1191" y="0"/>
                  </a:lnTo>
                  <a:lnTo>
                    <a:pt x="34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17"/>
            <p:cNvSpPr/>
            <p:nvPr/>
          </p:nvSpPr>
          <p:spPr>
            <a:xfrm>
              <a:off x="7161120" y="5229000"/>
              <a:ext cx="239760" cy="1479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960"/>
                <a:gd name="textAreaBottom" fmla="*/ 147960 h 147960"/>
              </a:gdLst>
              <a:ahLst/>
              <a:rect l="textAreaLeft" t="textAreaTop" r="textAreaRight" b="textAreaBottom"/>
              <a:pathLst>
                <a:path w="302" h="186">
                  <a:moveTo>
                    <a:pt x="301" y="177"/>
                  </a:moveTo>
                  <a:lnTo>
                    <a:pt x="302" y="150"/>
                  </a:lnTo>
                  <a:lnTo>
                    <a:pt x="299" y="120"/>
                  </a:lnTo>
                  <a:lnTo>
                    <a:pt x="291" y="94"/>
                  </a:lnTo>
                  <a:lnTo>
                    <a:pt x="276" y="67"/>
                  </a:lnTo>
                  <a:lnTo>
                    <a:pt x="266" y="54"/>
                  </a:lnTo>
                  <a:lnTo>
                    <a:pt x="256" y="44"/>
                  </a:lnTo>
                  <a:lnTo>
                    <a:pt x="245" y="35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7" y="12"/>
                  </a:lnTo>
                  <a:lnTo>
                    <a:pt x="192" y="7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5"/>
                  </a:lnTo>
                  <a:lnTo>
                    <a:pt x="89" y="13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3"/>
                  </a:lnTo>
                  <a:lnTo>
                    <a:pt x="20" y="130"/>
                  </a:lnTo>
                  <a:lnTo>
                    <a:pt x="21" y="127"/>
                  </a:lnTo>
                  <a:lnTo>
                    <a:pt x="28" y="102"/>
                  </a:lnTo>
                  <a:lnTo>
                    <a:pt x="41" y="79"/>
                  </a:lnTo>
                  <a:lnTo>
                    <a:pt x="56" y="61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5"/>
                  </a:lnTo>
                  <a:lnTo>
                    <a:pt x="148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9" y="31"/>
                  </a:lnTo>
                  <a:lnTo>
                    <a:pt x="210" y="38"/>
                  </a:lnTo>
                  <a:lnTo>
                    <a:pt x="222" y="44"/>
                  </a:lnTo>
                  <a:lnTo>
                    <a:pt x="232" y="51"/>
                  </a:lnTo>
                  <a:lnTo>
                    <a:pt x="241" y="61"/>
                  </a:lnTo>
                  <a:lnTo>
                    <a:pt x="251" y="71"/>
                  </a:lnTo>
                  <a:lnTo>
                    <a:pt x="259" y="81"/>
                  </a:lnTo>
                  <a:lnTo>
                    <a:pt x="271" y="102"/>
                  </a:lnTo>
                  <a:lnTo>
                    <a:pt x="279" y="125"/>
                  </a:lnTo>
                  <a:lnTo>
                    <a:pt x="281" y="150"/>
                  </a:lnTo>
                  <a:lnTo>
                    <a:pt x="279" y="174"/>
                  </a:lnTo>
                  <a:lnTo>
                    <a:pt x="279" y="177"/>
                  </a:lnTo>
                  <a:lnTo>
                    <a:pt x="281" y="182"/>
                  </a:lnTo>
                  <a:lnTo>
                    <a:pt x="284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6" y="184"/>
                  </a:lnTo>
                  <a:lnTo>
                    <a:pt x="299" y="182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8"/>
            <p:cNvSpPr/>
            <p:nvPr/>
          </p:nvSpPr>
          <p:spPr>
            <a:xfrm>
              <a:off x="7238880" y="502740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50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5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9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62" y="2"/>
                  </a:lnTo>
                  <a:lnTo>
                    <a:pt x="146" y="0"/>
                  </a:lnTo>
                  <a:lnTo>
                    <a:pt x="131" y="2"/>
                  </a:lnTo>
                  <a:lnTo>
                    <a:pt x="116" y="4"/>
                  </a:lnTo>
                  <a:lnTo>
                    <a:pt x="101" y="7"/>
                  </a:lnTo>
                  <a:lnTo>
                    <a:pt x="87" y="14"/>
                  </a:lnTo>
                  <a:lnTo>
                    <a:pt x="73" y="20"/>
                  </a:lnTo>
                  <a:lnTo>
                    <a:pt x="60" y="28"/>
                  </a:lnTo>
                  <a:lnTo>
                    <a:pt x="49" y="37"/>
                  </a:lnTo>
                  <a:lnTo>
                    <a:pt x="39" y="46"/>
                  </a:lnTo>
                  <a:lnTo>
                    <a:pt x="29" y="58"/>
                  </a:lnTo>
                  <a:lnTo>
                    <a:pt x="21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3" y="107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1" y="130"/>
                  </a:lnTo>
                  <a:lnTo>
                    <a:pt x="5" y="134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4" y="114"/>
                  </a:lnTo>
                  <a:lnTo>
                    <a:pt x="27" y="102"/>
                  </a:lnTo>
                  <a:lnTo>
                    <a:pt x="32" y="91"/>
                  </a:lnTo>
                  <a:lnTo>
                    <a:pt x="39" y="79"/>
                  </a:lnTo>
                  <a:lnTo>
                    <a:pt x="46" y="71"/>
                  </a:lnTo>
                  <a:lnTo>
                    <a:pt x="54" y="61"/>
                  </a:lnTo>
                  <a:lnTo>
                    <a:pt x="64" y="53"/>
                  </a:lnTo>
                  <a:lnTo>
                    <a:pt x="73" y="45"/>
                  </a:lnTo>
                  <a:lnTo>
                    <a:pt x="85" y="38"/>
                  </a:lnTo>
                  <a:lnTo>
                    <a:pt x="96" y="32"/>
                  </a:lnTo>
                  <a:lnTo>
                    <a:pt x="108" y="28"/>
                  </a:lnTo>
                  <a:lnTo>
                    <a:pt x="121" y="25"/>
                  </a:lnTo>
                  <a:lnTo>
                    <a:pt x="134" y="23"/>
                  </a:lnTo>
                  <a:lnTo>
                    <a:pt x="147" y="22"/>
                  </a:lnTo>
                  <a:lnTo>
                    <a:pt x="160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8" y="32"/>
                  </a:lnTo>
                  <a:lnTo>
                    <a:pt x="210" y="38"/>
                  </a:lnTo>
                  <a:lnTo>
                    <a:pt x="221" y="45"/>
                  </a:lnTo>
                  <a:lnTo>
                    <a:pt x="231" y="51"/>
                  </a:lnTo>
                  <a:lnTo>
                    <a:pt x="241" y="60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0" y="101"/>
                  </a:lnTo>
                  <a:lnTo>
                    <a:pt x="277" y="125"/>
                  </a:lnTo>
                  <a:lnTo>
                    <a:pt x="280" y="150"/>
                  </a:lnTo>
                  <a:lnTo>
                    <a:pt x="279" y="175"/>
                  </a:lnTo>
                  <a:lnTo>
                    <a:pt x="279" y="178"/>
                  </a:lnTo>
                  <a:lnTo>
                    <a:pt x="280" y="183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3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9"/>
            <p:cNvSpPr/>
            <p:nvPr/>
          </p:nvSpPr>
          <p:spPr>
            <a:xfrm>
              <a:off x="7318440" y="48243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302" h="185">
                  <a:moveTo>
                    <a:pt x="301" y="177"/>
                  </a:moveTo>
                  <a:lnTo>
                    <a:pt x="302" y="148"/>
                  </a:lnTo>
                  <a:lnTo>
                    <a:pt x="299" y="118"/>
                  </a:lnTo>
                  <a:lnTo>
                    <a:pt x="289" y="90"/>
                  </a:lnTo>
                  <a:lnTo>
                    <a:pt x="276" y="66"/>
                  </a:lnTo>
                  <a:lnTo>
                    <a:pt x="256" y="44"/>
                  </a:lnTo>
                  <a:lnTo>
                    <a:pt x="233" y="24"/>
                  </a:lnTo>
                  <a:lnTo>
                    <a:pt x="207" y="11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3"/>
                  </a:lnTo>
                  <a:lnTo>
                    <a:pt x="89" y="11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7" y="131"/>
                  </a:lnTo>
                  <a:lnTo>
                    <a:pt x="20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6" y="59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4"/>
                  </a:lnTo>
                  <a:lnTo>
                    <a:pt x="146" y="23"/>
                  </a:lnTo>
                  <a:lnTo>
                    <a:pt x="172" y="24"/>
                  </a:lnTo>
                  <a:lnTo>
                    <a:pt x="199" y="31"/>
                  </a:lnTo>
                  <a:lnTo>
                    <a:pt x="222" y="44"/>
                  </a:lnTo>
                  <a:lnTo>
                    <a:pt x="241" y="59"/>
                  </a:lnTo>
                  <a:lnTo>
                    <a:pt x="258" y="77"/>
                  </a:lnTo>
                  <a:lnTo>
                    <a:pt x="271" y="98"/>
                  </a:lnTo>
                  <a:lnTo>
                    <a:pt x="278" y="121"/>
                  </a:lnTo>
                  <a:lnTo>
                    <a:pt x="281" y="146"/>
                  </a:lnTo>
                  <a:lnTo>
                    <a:pt x="279" y="172"/>
                  </a:lnTo>
                  <a:lnTo>
                    <a:pt x="279" y="177"/>
                  </a:lnTo>
                  <a:lnTo>
                    <a:pt x="281" y="181"/>
                  </a:lnTo>
                  <a:lnTo>
                    <a:pt x="282" y="184"/>
                  </a:lnTo>
                  <a:lnTo>
                    <a:pt x="287" y="185"/>
                  </a:lnTo>
                  <a:lnTo>
                    <a:pt x="292" y="185"/>
                  </a:lnTo>
                  <a:lnTo>
                    <a:pt x="296" y="184"/>
                  </a:lnTo>
                  <a:lnTo>
                    <a:pt x="299" y="181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20"/>
            <p:cNvSpPr/>
            <p:nvPr/>
          </p:nvSpPr>
          <p:spPr>
            <a:xfrm>
              <a:off x="7396200" y="46227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48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4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46" y="0"/>
                  </a:lnTo>
                  <a:lnTo>
                    <a:pt x="116" y="4"/>
                  </a:lnTo>
                  <a:lnTo>
                    <a:pt x="88" y="12"/>
                  </a:lnTo>
                  <a:lnTo>
                    <a:pt x="62" y="27"/>
                  </a:lnTo>
                  <a:lnTo>
                    <a:pt x="41" y="45"/>
                  </a:lnTo>
                  <a:lnTo>
                    <a:pt x="23" y="68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1" y="130"/>
                  </a:lnTo>
                  <a:lnTo>
                    <a:pt x="5" y="132"/>
                  </a:lnTo>
                  <a:lnTo>
                    <a:pt x="8" y="133"/>
                  </a:lnTo>
                  <a:lnTo>
                    <a:pt x="13" y="133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5" y="59"/>
                  </a:lnTo>
                  <a:lnTo>
                    <a:pt x="75" y="45"/>
                  </a:lnTo>
                  <a:lnTo>
                    <a:pt x="96" y="33"/>
                  </a:lnTo>
                  <a:lnTo>
                    <a:pt x="121" y="25"/>
                  </a:lnTo>
                  <a:lnTo>
                    <a:pt x="146" y="23"/>
                  </a:lnTo>
                  <a:lnTo>
                    <a:pt x="172" y="25"/>
                  </a:lnTo>
                  <a:lnTo>
                    <a:pt x="185" y="28"/>
                  </a:lnTo>
                  <a:lnTo>
                    <a:pt x="198" y="31"/>
                  </a:lnTo>
                  <a:lnTo>
                    <a:pt x="210" y="36"/>
                  </a:lnTo>
                  <a:lnTo>
                    <a:pt x="221" y="43"/>
                  </a:lnTo>
                  <a:lnTo>
                    <a:pt x="231" y="51"/>
                  </a:lnTo>
                  <a:lnTo>
                    <a:pt x="241" y="59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1" y="100"/>
                  </a:lnTo>
                  <a:lnTo>
                    <a:pt x="277" y="123"/>
                  </a:lnTo>
                  <a:lnTo>
                    <a:pt x="280" y="148"/>
                  </a:lnTo>
                  <a:lnTo>
                    <a:pt x="279" y="173"/>
                  </a:lnTo>
                  <a:lnTo>
                    <a:pt x="279" y="178"/>
                  </a:lnTo>
                  <a:lnTo>
                    <a:pt x="280" y="181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1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21"/>
            <p:cNvSpPr/>
            <p:nvPr/>
          </p:nvSpPr>
          <p:spPr>
            <a:xfrm>
              <a:off x="7202520" y="4540320"/>
              <a:ext cx="1535040" cy="142848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1932" h="1800">
                  <a:moveTo>
                    <a:pt x="1925" y="311"/>
                  </a:moveTo>
                  <a:lnTo>
                    <a:pt x="1921" y="309"/>
                  </a:lnTo>
                  <a:lnTo>
                    <a:pt x="1917" y="311"/>
                  </a:lnTo>
                  <a:lnTo>
                    <a:pt x="1912" y="312"/>
                  </a:lnTo>
                  <a:lnTo>
                    <a:pt x="1911" y="316"/>
                  </a:lnTo>
                  <a:lnTo>
                    <a:pt x="1259" y="1769"/>
                  </a:lnTo>
                  <a:lnTo>
                    <a:pt x="389" y="1308"/>
                  </a:lnTo>
                  <a:lnTo>
                    <a:pt x="1254" y="1690"/>
                  </a:lnTo>
                  <a:lnTo>
                    <a:pt x="1916" y="189"/>
                  </a:lnTo>
                  <a:lnTo>
                    <a:pt x="1916" y="186"/>
                  </a:lnTo>
                  <a:lnTo>
                    <a:pt x="1916" y="181"/>
                  </a:lnTo>
                  <a:lnTo>
                    <a:pt x="1912" y="178"/>
                  </a:lnTo>
                  <a:lnTo>
                    <a:pt x="1909" y="174"/>
                  </a:lnTo>
                  <a:lnTo>
                    <a:pt x="1904" y="174"/>
                  </a:lnTo>
                  <a:lnTo>
                    <a:pt x="1901" y="174"/>
                  </a:lnTo>
                  <a:lnTo>
                    <a:pt x="1896" y="178"/>
                  </a:lnTo>
                  <a:lnTo>
                    <a:pt x="1894" y="181"/>
                  </a:lnTo>
                  <a:lnTo>
                    <a:pt x="1242" y="1661"/>
                  </a:lnTo>
                  <a:lnTo>
                    <a:pt x="349" y="1265"/>
                  </a:lnTo>
                  <a:lnTo>
                    <a:pt x="1233" y="1570"/>
                  </a:lnTo>
                  <a:lnTo>
                    <a:pt x="1909" y="17"/>
                  </a:lnTo>
                  <a:lnTo>
                    <a:pt x="1911" y="12"/>
                  </a:lnTo>
                  <a:lnTo>
                    <a:pt x="1909" y="7"/>
                  </a:lnTo>
                  <a:lnTo>
                    <a:pt x="1907" y="3"/>
                  </a:lnTo>
                  <a:lnTo>
                    <a:pt x="1904" y="0"/>
                  </a:lnTo>
                  <a:lnTo>
                    <a:pt x="1899" y="0"/>
                  </a:lnTo>
                  <a:lnTo>
                    <a:pt x="1894" y="0"/>
                  </a:lnTo>
                  <a:lnTo>
                    <a:pt x="1891" y="3"/>
                  </a:lnTo>
                  <a:lnTo>
                    <a:pt x="1889" y="7"/>
                  </a:lnTo>
                  <a:lnTo>
                    <a:pt x="1221" y="1543"/>
                  </a:lnTo>
                  <a:lnTo>
                    <a:pt x="75" y="1142"/>
                  </a:lnTo>
                  <a:lnTo>
                    <a:pt x="5" y="1115"/>
                  </a:lnTo>
                  <a:lnTo>
                    <a:pt x="3" y="1117"/>
                  </a:lnTo>
                  <a:lnTo>
                    <a:pt x="1" y="1119"/>
                  </a:lnTo>
                  <a:lnTo>
                    <a:pt x="0" y="1122"/>
                  </a:lnTo>
                  <a:lnTo>
                    <a:pt x="0" y="1124"/>
                  </a:lnTo>
                  <a:lnTo>
                    <a:pt x="0" y="1125"/>
                  </a:lnTo>
                  <a:lnTo>
                    <a:pt x="1" y="1129"/>
                  </a:lnTo>
                  <a:lnTo>
                    <a:pt x="6" y="1132"/>
                  </a:lnTo>
                  <a:lnTo>
                    <a:pt x="18" y="1137"/>
                  </a:lnTo>
                  <a:lnTo>
                    <a:pt x="36" y="1147"/>
                  </a:lnTo>
                  <a:lnTo>
                    <a:pt x="60" y="1160"/>
                  </a:lnTo>
                  <a:lnTo>
                    <a:pt x="90" y="1176"/>
                  </a:lnTo>
                  <a:lnTo>
                    <a:pt x="124" y="1194"/>
                  </a:lnTo>
                  <a:lnTo>
                    <a:pt x="162" y="1214"/>
                  </a:lnTo>
                  <a:lnTo>
                    <a:pt x="206" y="1237"/>
                  </a:lnTo>
                  <a:lnTo>
                    <a:pt x="252" y="1262"/>
                  </a:lnTo>
                  <a:lnTo>
                    <a:pt x="302" y="1288"/>
                  </a:lnTo>
                  <a:lnTo>
                    <a:pt x="354" y="1316"/>
                  </a:lnTo>
                  <a:lnTo>
                    <a:pt x="410" y="1345"/>
                  </a:lnTo>
                  <a:lnTo>
                    <a:pt x="466" y="1375"/>
                  </a:lnTo>
                  <a:lnTo>
                    <a:pt x="523" y="1405"/>
                  </a:lnTo>
                  <a:lnTo>
                    <a:pt x="582" y="1436"/>
                  </a:lnTo>
                  <a:lnTo>
                    <a:pt x="642" y="1467"/>
                  </a:lnTo>
                  <a:lnTo>
                    <a:pt x="701" y="1498"/>
                  </a:lnTo>
                  <a:lnTo>
                    <a:pt x="758" y="1529"/>
                  </a:lnTo>
                  <a:lnTo>
                    <a:pt x="817" y="1561"/>
                  </a:lnTo>
                  <a:lnTo>
                    <a:pt x="873" y="1590"/>
                  </a:lnTo>
                  <a:lnTo>
                    <a:pt x="927" y="1618"/>
                  </a:lnTo>
                  <a:lnTo>
                    <a:pt x="980" y="1646"/>
                  </a:lnTo>
                  <a:lnTo>
                    <a:pt x="1027" y="1672"/>
                  </a:lnTo>
                  <a:lnTo>
                    <a:pt x="1073" y="1697"/>
                  </a:lnTo>
                  <a:lnTo>
                    <a:pt x="1116" y="1718"/>
                  </a:lnTo>
                  <a:lnTo>
                    <a:pt x="1154" y="1740"/>
                  </a:lnTo>
                  <a:lnTo>
                    <a:pt x="1188" y="1756"/>
                  </a:lnTo>
                  <a:lnTo>
                    <a:pt x="1216" y="1773"/>
                  </a:lnTo>
                  <a:lnTo>
                    <a:pt x="1239" y="1784"/>
                  </a:lnTo>
                  <a:lnTo>
                    <a:pt x="1256" y="1792"/>
                  </a:lnTo>
                  <a:lnTo>
                    <a:pt x="1267" y="1799"/>
                  </a:lnTo>
                  <a:lnTo>
                    <a:pt x="1270" y="1800"/>
                  </a:lnTo>
                  <a:lnTo>
                    <a:pt x="1930" y="325"/>
                  </a:lnTo>
                  <a:lnTo>
                    <a:pt x="1932" y="320"/>
                  </a:lnTo>
                  <a:lnTo>
                    <a:pt x="1932" y="316"/>
                  </a:lnTo>
                  <a:lnTo>
                    <a:pt x="1929" y="312"/>
                  </a:lnTo>
                  <a:lnTo>
                    <a:pt x="1925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22"/>
            <p:cNvSpPr/>
            <p:nvPr/>
          </p:nvSpPr>
          <p:spPr>
            <a:xfrm>
              <a:off x="6357960" y="5430600"/>
              <a:ext cx="874800" cy="2160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101" h="271">
                  <a:moveTo>
                    <a:pt x="1070" y="0"/>
                  </a:moveTo>
                  <a:lnTo>
                    <a:pt x="11" y="80"/>
                  </a:lnTo>
                  <a:lnTo>
                    <a:pt x="6" y="82"/>
                  </a:lnTo>
                  <a:lnTo>
                    <a:pt x="3" y="83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5" y="100"/>
                  </a:lnTo>
                  <a:lnTo>
                    <a:pt x="8" y="102"/>
                  </a:lnTo>
                  <a:lnTo>
                    <a:pt x="13" y="103"/>
                  </a:lnTo>
                  <a:lnTo>
                    <a:pt x="755" y="47"/>
                  </a:lnTo>
                  <a:lnTo>
                    <a:pt x="52" y="167"/>
                  </a:lnTo>
                  <a:lnTo>
                    <a:pt x="49" y="169"/>
                  </a:lnTo>
                  <a:lnTo>
                    <a:pt x="46" y="171"/>
                  </a:lnTo>
                  <a:lnTo>
                    <a:pt x="44" y="175"/>
                  </a:lnTo>
                  <a:lnTo>
                    <a:pt x="44" y="180"/>
                  </a:lnTo>
                  <a:lnTo>
                    <a:pt x="46" y="184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89"/>
                  </a:lnTo>
                  <a:lnTo>
                    <a:pt x="812" y="60"/>
                  </a:lnTo>
                  <a:lnTo>
                    <a:pt x="90" y="248"/>
                  </a:lnTo>
                  <a:lnTo>
                    <a:pt x="85" y="249"/>
                  </a:lnTo>
                  <a:lnTo>
                    <a:pt x="83" y="253"/>
                  </a:lnTo>
                  <a:lnTo>
                    <a:pt x="82" y="258"/>
                  </a:lnTo>
                  <a:lnTo>
                    <a:pt x="82" y="263"/>
                  </a:lnTo>
                  <a:lnTo>
                    <a:pt x="83" y="266"/>
                  </a:lnTo>
                  <a:lnTo>
                    <a:pt x="87" y="269"/>
                  </a:lnTo>
                  <a:lnTo>
                    <a:pt x="92" y="271"/>
                  </a:lnTo>
                  <a:lnTo>
                    <a:pt x="95" y="271"/>
                  </a:lnTo>
                  <a:lnTo>
                    <a:pt x="1101" y="10"/>
                  </a:lnTo>
                  <a:lnTo>
                    <a:pt x="10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23"/>
            <p:cNvSpPr/>
            <p:nvPr/>
          </p:nvSpPr>
          <p:spPr>
            <a:xfrm>
              <a:off x="6432480" y="4892760"/>
              <a:ext cx="2416320" cy="1195200"/>
            </a:xfrm>
            <a:custGeom>
              <a:avLst/>
              <a:gdLst>
                <a:gd name="textAreaLeft" fmla="*/ 0 w 2416320"/>
                <a:gd name="textAreaRight" fmla="*/ 2416680 w 2416320"/>
                <a:gd name="textAreaTop" fmla="*/ 0 h 1195200"/>
                <a:gd name="textAreaBottom" fmla="*/ 1195560 h 1195200"/>
              </a:gdLst>
              <a:ahLst/>
              <a:rect l="textAreaLeft" t="textAreaTop" r="textAreaRight" b="textAreaBottom"/>
              <a:pathLst>
                <a:path w="3044" h="1507">
                  <a:moveTo>
                    <a:pt x="2860" y="0"/>
                  </a:moveTo>
                  <a:lnTo>
                    <a:pt x="2855" y="0"/>
                  </a:lnTo>
                  <a:lnTo>
                    <a:pt x="2852" y="2"/>
                  </a:lnTo>
                  <a:lnTo>
                    <a:pt x="2849" y="5"/>
                  </a:lnTo>
                  <a:lnTo>
                    <a:pt x="2847" y="10"/>
                  </a:lnTo>
                  <a:lnTo>
                    <a:pt x="2849" y="15"/>
                  </a:lnTo>
                  <a:lnTo>
                    <a:pt x="2851" y="18"/>
                  </a:lnTo>
                  <a:lnTo>
                    <a:pt x="2854" y="20"/>
                  </a:lnTo>
                  <a:lnTo>
                    <a:pt x="2859" y="22"/>
                  </a:lnTo>
                  <a:lnTo>
                    <a:pt x="3010" y="36"/>
                  </a:lnTo>
                  <a:lnTo>
                    <a:pt x="2292" y="1475"/>
                  </a:lnTo>
                  <a:lnTo>
                    <a:pt x="1063" y="758"/>
                  </a:lnTo>
                  <a:lnTo>
                    <a:pt x="1058" y="759"/>
                  </a:lnTo>
                  <a:lnTo>
                    <a:pt x="1033" y="766"/>
                  </a:lnTo>
                  <a:lnTo>
                    <a:pt x="1013" y="766"/>
                  </a:lnTo>
                  <a:lnTo>
                    <a:pt x="999" y="762"/>
                  </a:lnTo>
                  <a:lnTo>
                    <a:pt x="985" y="758"/>
                  </a:lnTo>
                  <a:lnTo>
                    <a:pt x="976" y="751"/>
                  </a:lnTo>
                  <a:lnTo>
                    <a:pt x="969" y="744"/>
                  </a:lnTo>
                  <a:lnTo>
                    <a:pt x="966" y="739"/>
                  </a:lnTo>
                  <a:lnTo>
                    <a:pt x="964" y="738"/>
                  </a:lnTo>
                  <a:lnTo>
                    <a:pt x="959" y="730"/>
                  </a:lnTo>
                  <a:lnTo>
                    <a:pt x="41" y="1065"/>
                  </a:lnTo>
                  <a:lnTo>
                    <a:pt x="86" y="960"/>
                  </a:lnTo>
                  <a:lnTo>
                    <a:pt x="87" y="955"/>
                  </a:lnTo>
                  <a:lnTo>
                    <a:pt x="86" y="950"/>
                  </a:lnTo>
                  <a:lnTo>
                    <a:pt x="84" y="946"/>
                  </a:lnTo>
                  <a:lnTo>
                    <a:pt x="79" y="943"/>
                  </a:lnTo>
                  <a:lnTo>
                    <a:pt x="76" y="943"/>
                  </a:lnTo>
                  <a:lnTo>
                    <a:pt x="71" y="943"/>
                  </a:lnTo>
                  <a:lnTo>
                    <a:pt x="68" y="946"/>
                  </a:lnTo>
                  <a:lnTo>
                    <a:pt x="64" y="950"/>
                  </a:lnTo>
                  <a:lnTo>
                    <a:pt x="0" y="1104"/>
                  </a:lnTo>
                  <a:lnTo>
                    <a:pt x="949" y="756"/>
                  </a:lnTo>
                  <a:lnTo>
                    <a:pt x="954" y="762"/>
                  </a:lnTo>
                  <a:lnTo>
                    <a:pt x="962" y="769"/>
                  </a:lnTo>
                  <a:lnTo>
                    <a:pt x="972" y="777"/>
                  </a:lnTo>
                  <a:lnTo>
                    <a:pt x="985" y="782"/>
                  </a:lnTo>
                  <a:lnTo>
                    <a:pt x="1000" y="787"/>
                  </a:lnTo>
                  <a:lnTo>
                    <a:pt x="1017" y="789"/>
                  </a:lnTo>
                  <a:lnTo>
                    <a:pt x="1038" y="787"/>
                  </a:lnTo>
                  <a:lnTo>
                    <a:pt x="1061" y="782"/>
                  </a:lnTo>
                  <a:lnTo>
                    <a:pt x="2302" y="1507"/>
                  </a:lnTo>
                  <a:lnTo>
                    <a:pt x="3044" y="17"/>
                  </a:lnTo>
                  <a:lnTo>
                    <a:pt x="28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24"/>
            <p:cNvSpPr/>
            <p:nvPr/>
          </p:nvSpPr>
          <p:spPr>
            <a:xfrm>
              <a:off x="6481800" y="3967200"/>
              <a:ext cx="2082600" cy="838080"/>
            </a:xfrm>
            <a:custGeom>
              <a:avLst/>
              <a:gdLst>
                <a:gd name="textAreaLeft" fmla="*/ 0 w 2082600"/>
                <a:gd name="textAreaRight" fmla="*/ 2082600 w 20826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25"/>
            <p:cNvSpPr/>
            <p:nvPr/>
          </p:nvSpPr>
          <p:spPr>
            <a:xfrm>
              <a:off x="6464160" y="3967200"/>
              <a:ext cx="2082960" cy="83808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26"/>
            <p:cNvSpPr/>
            <p:nvPr/>
          </p:nvSpPr>
          <p:spPr>
            <a:xfrm>
              <a:off x="6735600" y="5710320"/>
              <a:ext cx="1130400" cy="3762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7" y="473"/>
                  </a:lnTo>
                  <a:lnTo>
                    <a:pt x="1415" y="306"/>
                  </a:lnTo>
                  <a:lnTo>
                    <a:pt x="1419" y="304"/>
                  </a:lnTo>
                  <a:lnTo>
                    <a:pt x="1422" y="301"/>
                  </a:lnTo>
                  <a:lnTo>
                    <a:pt x="1424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27"/>
            <p:cNvSpPr/>
            <p:nvPr/>
          </p:nvSpPr>
          <p:spPr>
            <a:xfrm>
              <a:off x="6716880" y="5729040"/>
              <a:ext cx="1131840" cy="3747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8" y="473"/>
                  </a:lnTo>
                  <a:lnTo>
                    <a:pt x="1415" y="304"/>
                  </a:lnTo>
                  <a:lnTo>
                    <a:pt x="1420" y="302"/>
                  </a:lnTo>
                  <a:lnTo>
                    <a:pt x="1424" y="301"/>
                  </a:lnTo>
                  <a:lnTo>
                    <a:pt x="1425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28"/>
            <p:cNvSpPr/>
            <p:nvPr/>
          </p:nvSpPr>
          <p:spPr>
            <a:xfrm>
              <a:off x="8475840" y="545940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0"/>
                  </a:moveTo>
                  <a:lnTo>
                    <a:pt x="231" y="5"/>
                  </a:lnTo>
                  <a:lnTo>
                    <a:pt x="228" y="2"/>
                  </a:lnTo>
                  <a:lnTo>
                    <a:pt x="225" y="0"/>
                  </a:lnTo>
                  <a:lnTo>
                    <a:pt x="220" y="0"/>
                  </a:lnTo>
                  <a:lnTo>
                    <a:pt x="215" y="2"/>
                  </a:lnTo>
                  <a:lnTo>
                    <a:pt x="213" y="3"/>
                  </a:lnTo>
                  <a:lnTo>
                    <a:pt x="210" y="7"/>
                  </a:lnTo>
                  <a:lnTo>
                    <a:pt x="210" y="12"/>
                  </a:lnTo>
                  <a:lnTo>
                    <a:pt x="253" y="457"/>
                  </a:lnTo>
                  <a:lnTo>
                    <a:pt x="10" y="491"/>
                  </a:lnTo>
                  <a:lnTo>
                    <a:pt x="5" y="493"/>
                  </a:lnTo>
                  <a:lnTo>
                    <a:pt x="3" y="495"/>
                  </a:lnTo>
                  <a:lnTo>
                    <a:pt x="0" y="500"/>
                  </a:lnTo>
                  <a:lnTo>
                    <a:pt x="0" y="504"/>
                  </a:lnTo>
                  <a:lnTo>
                    <a:pt x="1" y="508"/>
                  </a:lnTo>
                  <a:lnTo>
                    <a:pt x="5" y="511"/>
                  </a:lnTo>
                  <a:lnTo>
                    <a:pt x="8" y="513"/>
                  </a:lnTo>
                  <a:lnTo>
                    <a:pt x="13" y="514"/>
                  </a:lnTo>
                  <a:lnTo>
                    <a:pt x="277" y="477"/>
                  </a:lnTo>
                  <a:lnTo>
                    <a:pt x="23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29"/>
            <p:cNvSpPr/>
            <p:nvPr/>
          </p:nvSpPr>
          <p:spPr>
            <a:xfrm>
              <a:off x="8475840" y="547524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1"/>
                  </a:moveTo>
                  <a:lnTo>
                    <a:pt x="231" y="6"/>
                  </a:lnTo>
                  <a:lnTo>
                    <a:pt x="228" y="3"/>
                  </a:lnTo>
                  <a:lnTo>
                    <a:pt x="225" y="1"/>
                  </a:lnTo>
                  <a:lnTo>
                    <a:pt x="220" y="0"/>
                  </a:lnTo>
                  <a:lnTo>
                    <a:pt x="215" y="1"/>
                  </a:lnTo>
                  <a:lnTo>
                    <a:pt x="213" y="4"/>
                  </a:lnTo>
                  <a:lnTo>
                    <a:pt x="210" y="8"/>
                  </a:lnTo>
                  <a:lnTo>
                    <a:pt x="210" y="13"/>
                  </a:lnTo>
                  <a:lnTo>
                    <a:pt x="253" y="458"/>
                  </a:lnTo>
                  <a:lnTo>
                    <a:pt x="10" y="492"/>
                  </a:lnTo>
                  <a:lnTo>
                    <a:pt x="5" y="494"/>
                  </a:lnTo>
                  <a:lnTo>
                    <a:pt x="3" y="496"/>
                  </a:lnTo>
                  <a:lnTo>
                    <a:pt x="0" y="501"/>
                  </a:lnTo>
                  <a:lnTo>
                    <a:pt x="0" y="505"/>
                  </a:lnTo>
                  <a:lnTo>
                    <a:pt x="1" y="509"/>
                  </a:lnTo>
                  <a:lnTo>
                    <a:pt x="5" y="512"/>
                  </a:lnTo>
                  <a:lnTo>
                    <a:pt x="8" y="514"/>
                  </a:lnTo>
                  <a:lnTo>
                    <a:pt x="13" y="514"/>
                  </a:lnTo>
                  <a:lnTo>
                    <a:pt x="277" y="478"/>
                  </a:lnTo>
                  <a:lnTo>
                    <a:pt x="2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30"/>
            <p:cNvSpPr/>
            <p:nvPr/>
          </p:nvSpPr>
          <p:spPr>
            <a:xfrm>
              <a:off x="7507440" y="4668840"/>
              <a:ext cx="271440" cy="709560"/>
            </a:xfrm>
            <a:custGeom>
              <a:avLst/>
              <a:gdLst>
                <a:gd name="textAreaLeft" fmla="*/ 0 w 271440"/>
                <a:gd name="textAreaRight" fmla="*/ 271440 w 27144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41" h="895">
                  <a:moveTo>
                    <a:pt x="320" y="8"/>
                  </a:moveTo>
                  <a:lnTo>
                    <a:pt x="0" y="880"/>
                  </a:lnTo>
                  <a:lnTo>
                    <a:pt x="0" y="883"/>
                  </a:lnTo>
                  <a:lnTo>
                    <a:pt x="1" y="888"/>
                  </a:lnTo>
                  <a:lnTo>
                    <a:pt x="3" y="892"/>
                  </a:lnTo>
                  <a:lnTo>
                    <a:pt x="6" y="893"/>
                  </a:lnTo>
                  <a:lnTo>
                    <a:pt x="11" y="895"/>
                  </a:lnTo>
                  <a:lnTo>
                    <a:pt x="15" y="893"/>
                  </a:lnTo>
                  <a:lnTo>
                    <a:pt x="18" y="892"/>
                  </a:lnTo>
                  <a:lnTo>
                    <a:pt x="21" y="888"/>
                  </a:lnTo>
                  <a:lnTo>
                    <a:pt x="340" y="15"/>
                  </a:lnTo>
                  <a:lnTo>
                    <a:pt x="341" y="11"/>
                  </a:lnTo>
                  <a:lnTo>
                    <a:pt x="340" y="6"/>
                  </a:lnTo>
                  <a:lnTo>
                    <a:pt x="338" y="3"/>
                  </a:lnTo>
                  <a:lnTo>
                    <a:pt x="333" y="1"/>
                  </a:lnTo>
                  <a:lnTo>
                    <a:pt x="330" y="0"/>
                  </a:lnTo>
                  <a:lnTo>
                    <a:pt x="325" y="1"/>
                  </a:lnTo>
                  <a:lnTo>
                    <a:pt x="322" y="3"/>
                  </a:lnTo>
                  <a:lnTo>
                    <a:pt x="320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31"/>
            <p:cNvSpPr/>
            <p:nvPr/>
          </p:nvSpPr>
          <p:spPr>
            <a:xfrm>
              <a:off x="7634160" y="4655880"/>
              <a:ext cx="287640" cy="75276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63" h="946">
                  <a:moveTo>
                    <a:pt x="342" y="8"/>
                  </a:moveTo>
                  <a:lnTo>
                    <a:pt x="2" y="931"/>
                  </a:lnTo>
                  <a:lnTo>
                    <a:pt x="0" y="936"/>
                  </a:lnTo>
                  <a:lnTo>
                    <a:pt x="2" y="940"/>
                  </a:lnTo>
                  <a:lnTo>
                    <a:pt x="3" y="943"/>
                  </a:lnTo>
                  <a:lnTo>
                    <a:pt x="7" y="946"/>
                  </a:lnTo>
                  <a:lnTo>
                    <a:pt x="12" y="946"/>
                  </a:lnTo>
                  <a:lnTo>
                    <a:pt x="16" y="944"/>
                  </a:lnTo>
                  <a:lnTo>
                    <a:pt x="20" y="943"/>
                  </a:lnTo>
                  <a:lnTo>
                    <a:pt x="21" y="940"/>
                  </a:lnTo>
                  <a:lnTo>
                    <a:pt x="363" y="15"/>
                  </a:lnTo>
                  <a:lnTo>
                    <a:pt x="363" y="11"/>
                  </a:lnTo>
                  <a:lnTo>
                    <a:pt x="363" y="7"/>
                  </a:lnTo>
                  <a:lnTo>
                    <a:pt x="360" y="3"/>
                  </a:lnTo>
                  <a:lnTo>
                    <a:pt x="356" y="2"/>
                  </a:lnTo>
                  <a:lnTo>
                    <a:pt x="351" y="0"/>
                  </a:lnTo>
                  <a:lnTo>
                    <a:pt x="348" y="2"/>
                  </a:lnTo>
                  <a:lnTo>
                    <a:pt x="345" y="3"/>
                  </a:lnTo>
                  <a:lnTo>
                    <a:pt x="342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32"/>
            <p:cNvSpPr/>
            <p:nvPr/>
          </p:nvSpPr>
          <p:spPr>
            <a:xfrm>
              <a:off x="7777080" y="4645080"/>
              <a:ext cx="304920" cy="792000"/>
            </a:xfrm>
            <a:custGeom>
              <a:avLst/>
              <a:gdLst>
                <a:gd name="textAreaLeft" fmla="*/ 0 w 304920"/>
                <a:gd name="textAreaRight" fmla="*/ 304920 w 30492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386" h="997">
                  <a:moveTo>
                    <a:pt x="365" y="7"/>
                  </a:moveTo>
                  <a:lnTo>
                    <a:pt x="0" y="984"/>
                  </a:lnTo>
                  <a:lnTo>
                    <a:pt x="0" y="987"/>
                  </a:lnTo>
                  <a:lnTo>
                    <a:pt x="2" y="992"/>
                  </a:lnTo>
                  <a:lnTo>
                    <a:pt x="3" y="996"/>
                  </a:lnTo>
                  <a:lnTo>
                    <a:pt x="7" y="997"/>
                  </a:lnTo>
                  <a:lnTo>
                    <a:pt x="12" y="997"/>
                  </a:lnTo>
                  <a:lnTo>
                    <a:pt x="16" y="997"/>
                  </a:lnTo>
                  <a:lnTo>
                    <a:pt x="20" y="994"/>
                  </a:lnTo>
                  <a:lnTo>
                    <a:pt x="21" y="991"/>
                  </a:lnTo>
                  <a:lnTo>
                    <a:pt x="386" y="15"/>
                  </a:lnTo>
                  <a:lnTo>
                    <a:pt x="386" y="12"/>
                  </a:lnTo>
                  <a:lnTo>
                    <a:pt x="386" y="7"/>
                  </a:lnTo>
                  <a:lnTo>
                    <a:pt x="383" y="3"/>
                  </a:lnTo>
                  <a:lnTo>
                    <a:pt x="379" y="2"/>
                  </a:lnTo>
                  <a:lnTo>
                    <a:pt x="374" y="0"/>
                  </a:lnTo>
                  <a:lnTo>
                    <a:pt x="371" y="2"/>
                  </a:lnTo>
                  <a:lnTo>
                    <a:pt x="368" y="3"/>
                  </a:lnTo>
                  <a:lnTo>
                    <a:pt x="365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33"/>
            <p:cNvSpPr/>
            <p:nvPr/>
          </p:nvSpPr>
          <p:spPr>
            <a:xfrm>
              <a:off x="7918560" y="4633920"/>
              <a:ext cx="325440" cy="8334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410" h="1050">
                  <a:moveTo>
                    <a:pt x="389" y="7"/>
                  </a:moveTo>
                  <a:lnTo>
                    <a:pt x="0" y="1035"/>
                  </a:lnTo>
                  <a:lnTo>
                    <a:pt x="0" y="1039"/>
                  </a:lnTo>
                  <a:lnTo>
                    <a:pt x="2" y="1043"/>
                  </a:lnTo>
                  <a:lnTo>
                    <a:pt x="3" y="1047"/>
                  </a:lnTo>
                  <a:lnTo>
                    <a:pt x="7" y="1048"/>
                  </a:lnTo>
                  <a:lnTo>
                    <a:pt x="10" y="1050"/>
                  </a:lnTo>
                  <a:lnTo>
                    <a:pt x="15" y="1048"/>
                  </a:lnTo>
                  <a:lnTo>
                    <a:pt x="18" y="1047"/>
                  </a:lnTo>
                  <a:lnTo>
                    <a:pt x="21" y="1042"/>
                  </a:lnTo>
                  <a:lnTo>
                    <a:pt x="409" y="15"/>
                  </a:lnTo>
                  <a:lnTo>
                    <a:pt x="410" y="12"/>
                  </a:lnTo>
                  <a:lnTo>
                    <a:pt x="409" y="7"/>
                  </a:lnTo>
                  <a:lnTo>
                    <a:pt x="407" y="4"/>
                  </a:lnTo>
                  <a:lnTo>
                    <a:pt x="404" y="0"/>
                  </a:lnTo>
                  <a:lnTo>
                    <a:pt x="399" y="0"/>
                  </a:lnTo>
                  <a:lnTo>
                    <a:pt x="394" y="0"/>
                  </a:lnTo>
                  <a:lnTo>
                    <a:pt x="391" y="4"/>
                  </a:lnTo>
                  <a:lnTo>
                    <a:pt x="389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34"/>
            <p:cNvSpPr/>
            <p:nvPr/>
          </p:nvSpPr>
          <p:spPr>
            <a:xfrm>
              <a:off x="8061480" y="4620960"/>
              <a:ext cx="342720" cy="8748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431" h="1100">
                  <a:moveTo>
                    <a:pt x="19" y="1094"/>
                  </a:moveTo>
                  <a:lnTo>
                    <a:pt x="431" y="14"/>
                  </a:lnTo>
                  <a:lnTo>
                    <a:pt x="431" y="11"/>
                  </a:lnTo>
                  <a:lnTo>
                    <a:pt x="431" y="6"/>
                  </a:lnTo>
                  <a:lnTo>
                    <a:pt x="428" y="3"/>
                  </a:lnTo>
                  <a:lnTo>
                    <a:pt x="425" y="0"/>
                  </a:lnTo>
                  <a:lnTo>
                    <a:pt x="422" y="0"/>
                  </a:lnTo>
                  <a:lnTo>
                    <a:pt x="417" y="0"/>
                  </a:lnTo>
                  <a:lnTo>
                    <a:pt x="413" y="3"/>
                  </a:lnTo>
                  <a:lnTo>
                    <a:pt x="412" y="6"/>
                  </a:lnTo>
                  <a:lnTo>
                    <a:pt x="0" y="1085"/>
                  </a:lnTo>
                  <a:lnTo>
                    <a:pt x="0" y="1089"/>
                  </a:lnTo>
                  <a:lnTo>
                    <a:pt x="0" y="1094"/>
                  </a:lnTo>
                  <a:lnTo>
                    <a:pt x="3" y="1097"/>
                  </a:lnTo>
                  <a:lnTo>
                    <a:pt x="6" y="1100"/>
                  </a:lnTo>
                  <a:lnTo>
                    <a:pt x="9" y="1100"/>
                  </a:lnTo>
                  <a:lnTo>
                    <a:pt x="14" y="1099"/>
                  </a:lnTo>
                  <a:lnTo>
                    <a:pt x="18" y="1097"/>
                  </a:lnTo>
                  <a:lnTo>
                    <a:pt x="19" y="1094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35"/>
            <p:cNvSpPr/>
            <p:nvPr/>
          </p:nvSpPr>
          <p:spPr>
            <a:xfrm>
              <a:off x="7710480" y="4605120"/>
              <a:ext cx="803160" cy="6984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013" h="87">
                  <a:moveTo>
                    <a:pt x="10" y="87"/>
                  </a:moveTo>
                  <a:lnTo>
                    <a:pt x="1005" y="20"/>
                  </a:lnTo>
                  <a:lnTo>
                    <a:pt x="1008" y="18"/>
                  </a:lnTo>
                  <a:lnTo>
                    <a:pt x="1012" y="16"/>
                  </a:lnTo>
                  <a:lnTo>
                    <a:pt x="1013" y="13"/>
                  </a:lnTo>
                  <a:lnTo>
                    <a:pt x="1013" y="10"/>
                  </a:lnTo>
                  <a:lnTo>
                    <a:pt x="1012" y="6"/>
                  </a:lnTo>
                  <a:lnTo>
                    <a:pt x="1010" y="3"/>
                  </a:lnTo>
                  <a:lnTo>
                    <a:pt x="1007" y="2"/>
                  </a:lnTo>
                  <a:lnTo>
                    <a:pt x="1003" y="0"/>
                  </a:lnTo>
                  <a:lnTo>
                    <a:pt x="8" y="69"/>
                  </a:lnTo>
                  <a:lnTo>
                    <a:pt x="5" y="71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2" y="82"/>
                  </a:lnTo>
                  <a:lnTo>
                    <a:pt x="4" y="85"/>
                  </a:lnTo>
                  <a:lnTo>
                    <a:pt x="7" y="87"/>
                  </a:lnTo>
                  <a:lnTo>
                    <a:pt x="10" y="8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36"/>
            <p:cNvSpPr/>
            <p:nvPr/>
          </p:nvSpPr>
          <p:spPr>
            <a:xfrm>
              <a:off x="7648560" y="4830840"/>
              <a:ext cx="768240" cy="1872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969" h="25">
                  <a:moveTo>
                    <a:pt x="8" y="25"/>
                  </a:moveTo>
                  <a:lnTo>
                    <a:pt x="959" y="18"/>
                  </a:lnTo>
                  <a:lnTo>
                    <a:pt x="962" y="17"/>
                  </a:lnTo>
                  <a:lnTo>
                    <a:pt x="966" y="15"/>
                  </a:lnTo>
                  <a:lnTo>
                    <a:pt x="967" y="12"/>
                  </a:lnTo>
                  <a:lnTo>
                    <a:pt x="969" y="9"/>
                  </a:lnTo>
                  <a:lnTo>
                    <a:pt x="967" y="5"/>
                  </a:lnTo>
                  <a:lnTo>
                    <a:pt x="966" y="2"/>
                  </a:lnTo>
                  <a:lnTo>
                    <a:pt x="962" y="0"/>
                  </a:lnTo>
                  <a:lnTo>
                    <a:pt x="959" y="0"/>
                  </a:lnTo>
                  <a:lnTo>
                    <a:pt x="8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5" y="25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37"/>
            <p:cNvSpPr/>
            <p:nvPr/>
          </p:nvSpPr>
          <p:spPr>
            <a:xfrm>
              <a:off x="7586640" y="5011560"/>
              <a:ext cx="735120" cy="5580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26" h="70">
                  <a:moveTo>
                    <a:pt x="10" y="18"/>
                  </a:moveTo>
                  <a:lnTo>
                    <a:pt x="916" y="70"/>
                  </a:lnTo>
                  <a:lnTo>
                    <a:pt x="920" y="70"/>
                  </a:lnTo>
                  <a:lnTo>
                    <a:pt x="923" y="69"/>
                  </a:lnTo>
                  <a:lnTo>
                    <a:pt x="925" y="65"/>
                  </a:lnTo>
                  <a:lnTo>
                    <a:pt x="926" y="62"/>
                  </a:lnTo>
                  <a:lnTo>
                    <a:pt x="925" y="59"/>
                  </a:lnTo>
                  <a:lnTo>
                    <a:pt x="923" y="56"/>
                  </a:lnTo>
                  <a:lnTo>
                    <a:pt x="920" y="54"/>
                  </a:lnTo>
                  <a:lnTo>
                    <a:pt x="916" y="5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38"/>
            <p:cNvSpPr/>
            <p:nvPr/>
          </p:nvSpPr>
          <p:spPr>
            <a:xfrm>
              <a:off x="7524720" y="5186160"/>
              <a:ext cx="700200" cy="10476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2" h="131">
                  <a:moveTo>
                    <a:pt x="8" y="18"/>
                  </a:moveTo>
                  <a:lnTo>
                    <a:pt x="870" y="131"/>
                  </a:lnTo>
                  <a:lnTo>
                    <a:pt x="874" y="131"/>
                  </a:lnTo>
                  <a:lnTo>
                    <a:pt x="877" y="130"/>
                  </a:lnTo>
                  <a:lnTo>
                    <a:pt x="880" y="128"/>
                  </a:lnTo>
                  <a:lnTo>
                    <a:pt x="882" y="125"/>
                  </a:lnTo>
                  <a:lnTo>
                    <a:pt x="882" y="121"/>
                  </a:lnTo>
                  <a:lnTo>
                    <a:pt x="880" y="118"/>
                  </a:lnTo>
                  <a:lnTo>
                    <a:pt x="877" y="115"/>
                  </a:lnTo>
                  <a:lnTo>
                    <a:pt x="874" y="11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39"/>
            <p:cNvSpPr/>
            <p:nvPr/>
          </p:nvSpPr>
          <p:spPr>
            <a:xfrm>
              <a:off x="7462800" y="5360760"/>
              <a:ext cx="663480" cy="1540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836" h="194">
                  <a:moveTo>
                    <a:pt x="7" y="18"/>
                  </a:moveTo>
                  <a:lnTo>
                    <a:pt x="826" y="194"/>
                  </a:lnTo>
                  <a:lnTo>
                    <a:pt x="829" y="194"/>
                  </a:lnTo>
                  <a:lnTo>
                    <a:pt x="832" y="192"/>
                  </a:lnTo>
                  <a:lnTo>
                    <a:pt x="834" y="189"/>
                  </a:lnTo>
                  <a:lnTo>
                    <a:pt x="836" y="186"/>
                  </a:lnTo>
                  <a:lnTo>
                    <a:pt x="836" y="182"/>
                  </a:lnTo>
                  <a:lnTo>
                    <a:pt x="836" y="179"/>
                  </a:lnTo>
                  <a:lnTo>
                    <a:pt x="832" y="177"/>
                  </a:lnTo>
                  <a:lnTo>
                    <a:pt x="829" y="176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40"/>
            <p:cNvSpPr/>
            <p:nvPr/>
          </p:nvSpPr>
          <p:spPr>
            <a:xfrm>
              <a:off x="6848640" y="4614840"/>
              <a:ext cx="461880" cy="936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83" h="117">
                  <a:moveTo>
                    <a:pt x="583" y="79"/>
                  </a:moveTo>
                  <a:lnTo>
                    <a:pt x="581" y="78"/>
                  </a:lnTo>
                  <a:lnTo>
                    <a:pt x="578" y="76"/>
                  </a:lnTo>
                  <a:lnTo>
                    <a:pt x="575" y="76"/>
                  </a:lnTo>
                  <a:lnTo>
                    <a:pt x="571" y="76"/>
                  </a:lnTo>
                  <a:lnTo>
                    <a:pt x="570" y="78"/>
                  </a:lnTo>
                  <a:lnTo>
                    <a:pt x="568" y="78"/>
                  </a:lnTo>
                  <a:lnTo>
                    <a:pt x="565" y="79"/>
                  </a:lnTo>
                  <a:lnTo>
                    <a:pt x="563" y="81"/>
                  </a:lnTo>
                  <a:lnTo>
                    <a:pt x="558" y="84"/>
                  </a:lnTo>
                  <a:lnTo>
                    <a:pt x="552" y="89"/>
                  </a:lnTo>
                  <a:lnTo>
                    <a:pt x="543" y="92"/>
                  </a:lnTo>
                  <a:lnTo>
                    <a:pt x="537" y="96"/>
                  </a:lnTo>
                  <a:lnTo>
                    <a:pt x="527" y="99"/>
                  </a:lnTo>
                  <a:lnTo>
                    <a:pt x="519" y="101"/>
                  </a:lnTo>
                  <a:lnTo>
                    <a:pt x="509" y="102"/>
                  </a:lnTo>
                  <a:lnTo>
                    <a:pt x="499" y="101"/>
                  </a:lnTo>
                  <a:lnTo>
                    <a:pt x="493" y="99"/>
                  </a:lnTo>
                  <a:lnTo>
                    <a:pt x="484" y="96"/>
                  </a:lnTo>
                  <a:lnTo>
                    <a:pt x="478" y="91"/>
                  </a:lnTo>
                  <a:lnTo>
                    <a:pt x="471" y="86"/>
                  </a:lnTo>
                  <a:lnTo>
                    <a:pt x="466" y="79"/>
                  </a:lnTo>
                  <a:lnTo>
                    <a:pt x="460" y="73"/>
                  </a:lnTo>
                  <a:lnTo>
                    <a:pt x="453" y="64"/>
                  </a:lnTo>
                  <a:lnTo>
                    <a:pt x="448" y="55"/>
                  </a:lnTo>
                  <a:lnTo>
                    <a:pt x="447" y="53"/>
                  </a:lnTo>
                  <a:lnTo>
                    <a:pt x="445" y="51"/>
                  </a:lnTo>
                  <a:lnTo>
                    <a:pt x="435" y="48"/>
                  </a:lnTo>
                  <a:lnTo>
                    <a:pt x="427" y="46"/>
                  </a:lnTo>
                  <a:lnTo>
                    <a:pt x="419" y="46"/>
                  </a:lnTo>
                  <a:lnTo>
                    <a:pt x="410" y="48"/>
                  </a:lnTo>
                  <a:lnTo>
                    <a:pt x="402" y="50"/>
                  </a:lnTo>
                  <a:lnTo>
                    <a:pt x="396" y="53"/>
                  </a:lnTo>
                  <a:lnTo>
                    <a:pt x="388" y="56"/>
                  </a:lnTo>
                  <a:lnTo>
                    <a:pt x="381" y="60"/>
                  </a:lnTo>
                  <a:lnTo>
                    <a:pt x="373" y="63"/>
                  </a:lnTo>
                  <a:lnTo>
                    <a:pt x="365" y="66"/>
                  </a:lnTo>
                  <a:lnTo>
                    <a:pt x="358" y="69"/>
                  </a:lnTo>
                  <a:lnTo>
                    <a:pt x="351" y="71"/>
                  </a:lnTo>
                  <a:lnTo>
                    <a:pt x="346" y="71"/>
                  </a:lnTo>
                  <a:lnTo>
                    <a:pt x="340" y="69"/>
                  </a:lnTo>
                  <a:lnTo>
                    <a:pt x="333" y="66"/>
                  </a:lnTo>
                  <a:lnTo>
                    <a:pt x="327" y="63"/>
                  </a:lnTo>
                  <a:lnTo>
                    <a:pt x="277" y="22"/>
                  </a:lnTo>
                  <a:lnTo>
                    <a:pt x="268" y="20"/>
                  </a:lnTo>
                  <a:lnTo>
                    <a:pt x="258" y="18"/>
                  </a:lnTo>
                  <a:lnTo>
                    <a:pt x="248" y="18"/>
                  </a:lnTo>
                  <a:lnTo>
                    <a:pt x="240" y="20"/>
                  </a:lnTo>
                  <a:lnTo>
                    <a:pt x="230" y="22"/>
                  </a:lnTo>
                  <a:lnTo>
                    <a:pt x="222" y="23"/>
                  </a:lnTo>
                  <a:lnTo>
                    <a:pt x="213" y="27"/>
                  </a:lnTo>
                  <a:lnTo>
                    <a:pt x="205" y="30"/>
                  </a:lnTo>
                  <a:lnTo>
                    <a:pt x="194" y="33"/>
                  </a:lnTo>
                  <a:lnTo>
                    <a:pt x="182" y="37"/>
                  </a:lnTo>
                  <a:lnTo>
                    <a:pt x="172" y="40"/>
                  </a:lnTo>
                  <a:lnTo>
                    <a:pt x="163" y="38"/>
                  </a:lnTo>
                  <a:lnTo>
                    <a:pt x="153" y="37"/>
                  </a:lnTo>
                  <a:lnTo>
                    <a:pt x="143" y="32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15" y="4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2" y="5"/>
                  </a:lnTo>
                  <a:lnTo>
                    <a:pt x="62" y="9"/>
                  </a:lnTo>
                  <a:lnTo>
                    <a:pt x="54" y="12"/>
                  </a:lnTo>
                  <a:lnTo>
                    <a:pt x="43" y="15"/>
                  </a:lnTo>
                  <a:lnTo>
                    <a:pt x="31" y="20"/>
                  </a:lnTo>
                  <a:lnTo>
                    <a:pt x="20" y="22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38"/>
                  </a:lnTo>
                  <a:lnTo>
                    <a:pt x="8" y="38"/>
                  </a:lnTo>
                  <a:lnTo>
                    <a:pt x="15" y="38"/>
                  </a:lnTo>
                  <a:lnTo>
                    <a:pt x="21" y="38"/>
                  </a:lnTo>
                  <a:lnTo>
                    <a:pt x="28" y="37"/>
                  </a:lnTo>
                  <a:lnTo>
                    <a:pt x="35" y="35"/>
                  </a:lnTo>
                  <a:lnTo>
                    <a:pt x="41" y="33"/>
                  </a:lnTo>
                  <a:lnTo>
                    <a:pt x="48" y="32"/>
                  </a:lnTo>
                  <a:lnTo>
                    <a:pt x="54" y="28"/>
                  </a:lnTo>
                  <a:lnTo>
                    <a:pt x="61" y="27"/>
                  </a:lnTo>
                  <a:lnTo>
                    <a:pt x="67" y="23"/>
                  </a:lnTo>
                  <a:lnTo>
                    <a:pt x="76" y="22"/>
                  </a:lnTo>
                  <a:lnTo>
                    <a:pt x="82" y="18"/>
                  </a:lnTo>
                  <a:lnTo>
                    <a:pt x="89" y="17"/>
                  </a:lnTo>
                  <a:lnTo>
                    <a:pt x="95" y="17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6" y="46"/>
                  </a:lnTo>
                  <a:lnTo>
                    <a:pt x="149" y="51"/>
                  </a:lnTo>
                  <a:lnTo>
                    <a:pt x="161" y="55"/>
                  </a:lnTo>
                  <a:lnTo>
                    <a:pt x="174" y="55"/>
                  </a:lnTo>
                  <a:lnTo>
                    <a:pt x="186" y="53"/>
                  </a:lnTo>
                  <a:lnTo>
                    <a:pt x="199" y="50"/>
                  </a:lnTo>
                  <a:lnTo>
                    <a:pt x="210" y="45"/>
                  </a:lnTo>
                  <a:lnTo>
                    <a:pt x="218" y="43"/>
                  </a:lnTo>
                  <a:lnTo>
                    <a:pt x="225" y="40"/>
                  </a:lnTo>
                  <a:lnTo>
                    <a:pt x="233" y="38"/>
                  </a:lnTo>
                  <a:lnTo>
                    <a:pt x="241" y="37"/>
                  </a:lnTo>
                  <a:lnTo>
                    <a:pt x="248" y="35"/>
                  </a:lnTo>
                  <a:lnTo>
                    <a:pt x="256" y="35"/>
                  </a:lnTo>
                  <a:lnTo>
                    <a:pt x="263" y="35"/>
                  </a:lnTo>
                  <a:lnTo>
                    <a:pt x="271" y="37"/>
                  </a:lnTo>
                  <a:lnTo>
                    <a:pt x="274" y="40"/>
                  </a:lnTo>
                  <a:lnTo>
                    <a:pt x="282" y="46"/>
                  </a:lnTo>
                  <a:lnTo>
                    <a:pt x="297" y="60"/>
                  </a:lnTo>
                  <a:lnTo>
                    <a:pt x="317" y="76"/>
                  </a:lnTo>
                  <a:lnTo>
                    <a:pt x="327" y="83"/>
                  </a:lnTo>
                  <a:lnTo>
                    <a:pt x="337" y="86"/>
                  </a:lnTo>
                  <a:lnTo>
                    <a:pt x="345" y="87"/>
                  </a:lnTo>
                  <a:lnTo>
                    <a:pt x="355" y="86"/>
                  </a:lnTo>
                  <a:lnTo>
                    <a:pt x="363" y="84"/>
                  </a:lnTo>
                  <a:lnTo>
                    <a:pt x="371" y="81"/>
                  </a:lnTo>
                  <a:lnTo>
                    <a:pt x="379" y="78"/>
                  </a:lnTo>
                  <a:lnTo>
                    <a:pt x="388" y="74"/>
                  </a:lnTo>
                  <a:lnTo>
                    <a:pt x="399" y="68"/>
                  </a:lnTo>
                  <a:lnTo>
                    <a:pt x="412" y="64"/>
                  </a:lnTo>
                  <a:lnTo>
                    <a:pt x="424" y="63"/>
                  </a:lnTo>
                  <a:lnTo>
                    <a:pt x="435" y="66"/>
                  </a:lnTo>
                  <a:lnTo>
                    <a:pt x="442" y="76"/>
                  </a:lnTo>
                  <a:lnTo>
                    <a:pt x="448" y="84"/>
                  </a:lnTo>
                  <a:lnTo>
                    <a:pt x="456" y="92"/>
                  </a:lnTo>
                  <a:lnTo>
                    <a:pt x="463" y="99"/>
                  </a:lnTo>
                  <a:lnTo>
                    <a:pt x="471" y="106"/>
                  </a:lnTo>
                  <a:lnTo>
                    <a:pt x="478" y="109"/>
                  </a:lnTo>
                  <a:lnTo>
                    <a:pt x="486" y="114"/>
                  </a:lnTo>
                  <a:lnTo>
                    <a:pt x="494" y="115"/>
                  </a:lnTo>
                  <a:lnTo>
                    <a:pt x="506" y="117"/>
                  </a:lnTo>
                  <a:lnTo>
                    <a:pt x="519" y="117"/>
                  </a:lnTo>
                  <a:lnTo>
                    <a:pt x="529" y="115"/>
                  </a:lnTo>
                  <a:lnTo>
                    <a:pt x="540" y="112"/>
                  </a:lnTo>
                  <a:lnTo>
                    <a:pt x="548" y="109"/>
                  </a:lnTo>
                  <a:lnTo>
                    <a:pt x="558" y="104"/>
                  </a:lnTo>
                  <a:lnTo>
                    <a:pt x="565" y="99"/>
                  </a:lnTo>
                  <a:lnTo>
                    <a:pt x="571" y="96"/>
                  </a:lnTo>
                  <a:lnTo>
                    <a:pt x="573" y="94"/>
                  </a:lnTo>
                  <a:lnTo>
                    <a:pt x="576" y="92"/>
                  </a:lnTo>
                  <a:lnTo>
                    <a:pt x="578" y="91"/>
                  </a:lnTo>
                  <a:lnTo>
                    <a:pt x="580" y="91"/>
                  </a:lnTo>
                  <a:lnTo>
                    <a:pt x="581" y="89"/>
                  </a:lnTo>
                  <a:lnTo>
                    <a:pt x="583" y="86"/>
                  </a:lnTo>
                  <a:lnTo>
                    <a:pt x="583" y="83"/>
                  </a:lnTo>
                  <a:lnTo>
                    <a:pt x="58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41"/>
            <p:cNvSpPr/>
            <p:nvPr/>
          </p:nvSpPr>
          <p:spPr>
            <a:xfrm>
              <a:off x="6807240" y="4722840"/>
              <a:ext cx="463680" cy="87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85" h="108">
                  <a:moveTo>
                    <a:pt x="583" y="70"/>
                  </a:moveTo>
                  <a:lnTo>
                    <a:pt x="582" y="67"/>
                  </a:lnTo>
                  <a:lnTo>
                    <a:pt x="578" y="65"/>
                  </a:lnTo>
                  <a:lnTo>
                    <a:pt x="577" y="65"/>
                  </a:lnTo>
                  <a:lnTo>
                    <a:pt x="573" y="67"/>
                  </a:lnTo>
                  <a:lnTo>
                    <a:pt x="572" y="67"/>
                  </a:lnTo>
                  <a:lnTo>
                    <a:pt x="569" y="69"/>
                  </a:lnTo>
                  <a:lnTo>
                    <a:pt x="567" y="70"/>
                  </a:lnTo>
                  <a:lnTo>
                    <a:pt x="564" y="72"/>
                  </a:lnTo>
                  <a:lnTo>
                    <a:pt x="559" y="75"/>
                  </a:lnTo>
                  <a:lnTo>
                    <a:pt x="552" y="79"/>
                  </a:lnTo>
                  <a:lnTo>
                    <a:pt x="544" y="84"/>
                  </a:lnTo>
                  <a:lnTo>
                    <a:pt x="537" y="87"/>
                  </a:lnTo>
                  <a:lnTo>
                    <a:pt x="528" y="90"/>
                  </a:lnTo>
                  <a:lnTo>
                    <a:pt x="519" y="92"/>
                  </a:lnTo>
                  <a:lnTo>
                    <a:pt x="509" y="93"/>
                  </a:lnTo>
                  <a:lnTo>
                    <a:pt x="500" y="92"/>
                  </a:lnTo>
                  <a:lnTo>
                    <a:pt x="493" y="90"/>
                  </a:lnTo>
                  <a:lnTo>
                    <a:pt x="486" y="87"/>
                  </a:lnTo>
                  <a:lnTo>
                    <a:pt x="480" y="82"/>
                  </a:lnTo>
                  <a:lnTo>
                    <a:pt x="473" y="77"/>
                  </a:lnTo>
                  <a:lnTo>
                    <a:pt x="467" y="70"/>
                  </a:lnTo>
                  <a:lnTo>
                    <a:pt x="460" y="64"/>
                  </a:lnTo>
                  <a:lnTo>
                    <a:pt x="454" y="56"/>
                  </a:lnTo>
                  <a:lnTo>
                    <a:pt x="449" y="47"/>
                  </a:lnTo>
                  <a:lnTo>
                    <a:pt x="447" y="46"/>
                  </a:lnTo>
                  <a:lnTo>
                    <a:pt x="445" y="44"/>
                  </a:lnTo>
                  <a:lnTo>
                    <a:pt x="436" y="41"/>
                  </a:lnTo>
                  <a:lnTo>
                    <a:pt x="427" y="39"/>
                  </a:lnTo>
                  <a:lnTo>
                    <a:pt x="419" y="39"/>
                  </a:lnTo>
                  <a:lnTo>
                    <a:pt x="411" y="41"/>
                  </a:lnTo>
                  <a:lnTo>
                    <a:pt x="403" y="44"/>
                  </a:lnTo>
                  <a:lnTo>
                    <a:pt x="396" y="47"/>
                  </a:lnTo>
                  <a:lnTo>
                    <a:pt x="388" y="51"/>
                  </a:lnTo>
                  <a:lnTo>
                    <a:pt x="381" y="54"/>
                  </a:lnTo>
                  <a:lnTo>
                    <a:pt x="373" y="57"/>
                  </a:lnTo>
                  <a:lnTo>
                    <a:pt x="367" y="61"/>
                  </a:lnTo>
                  <a:lnTo>
                    <a:pt x="360" y="62"/>
                  </a:lnTo>
                  <a:lnTo>
                    <a:pt x="353" y="64"/>
                  </a:lnTo>
                  <a:lnTo>
                    <a:pt x="347" y="64"/>
                  </a:lnTo>
                  <a:lnTo>
                    <a:pt x="340" y="64"/>
                  </a:lnTo>
                  <a:lnTo>
                    <a:pt x="334" y="61"/>
                  </a:lnTo>
                  <a:lnTo>
                    <a:pt x="327" y="57"/>
                  </a:lnTo>
                  <a:lnTo>
                    <a:pt x="278" y="18"/>
                  </a:lnTo>
                  <a:lnTo>
                    <a:pt x="268" y="16"/>
                  </a:lnTo>
                  <a:lnTo>
                    <a:pt x="258" y="15"/>
                  </a:lnTo>
                  <a:lnTo>
                    <a:pt x="248" y="15"/>
                  </a:lnTo>
                  <a:lnTo>
                    <a:pt x="240" y="16"/>
                  </a:lnTo>
                  <a:lnTo>
                    <a:pt x="230" y="18"/>
                  </a:lnTo>
                  <a:lnTo>
                    <a:pt x="222" y="21"/>
                  </a:lnTo>
                  <a:lnTo>
                    <a:pt x="214" y="23"/>
                  </a:lnTo>
                  <a:lnTo>
                    <a:pt x="206" y="26"/>
                  </a:lnTo>
                  <a:lnTo>
                    <a:pt x="194" y="31"/>
                  </a:lnTo>
                  <a:lnTo>
                    <a:pt x="183" y="34"/>
                  </a:lnTo>
                  <a:lnTo>
                    <a:pt x="173" y="36"/>
                  </a:lnTo>
                  <a:lnTo>
                    <a:pt x="163" y="36"/>
                  </a:lnTo>
                  <a:lnTo>
                    <a:pt x="153" y="34"/>
                  </a:lnTo>
                  <a:lnTo>
                    <a:pt x="143" y="29"/>
                  </a:lnTo>
                  <a:lnTo>
                    <a:pt x="135" y="21"/>
                  </a:lnTo>
                  <a:lnTo>
                    <a:pt x="125" y="8"/>
                  </a:lnTo>
                  <a:lnTo>
                    <a:pt x="125" y="6"/>
                  </a:lnTo>
                  <a:lnTo>
                    <a:pt x="122" y="5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1" y="3"/>
                  </a:lnTo>
                  <a:lnTo>
                    <a:pt x="71" y="5"/>
                  </a:lnTo>
                  <a:lnTo>
                    <a:pt x="63" y="8"/>
                  </a:lnTo>
                  <a:lnTo>
                    <a:pt x="55" y="11"/>
                  </a:lnTo>
                  <a:lnTo>
                    <a:pt x="43" y="15"/>
                  </a:lnTo>
                  <a:lnTo>
                    <a:pt x="32" y="19"/>
                  </a:lnTo>
                  <a:lnTo>
                    <a:pt x="20" y="21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9" y="39"/>
                  </a:lnTo>
                  <a:lnTo>
                    <a:pt x="15" y="39"/>
                  </a:lnTo>
                  <a:lnTo>
                    <a:pt x="22" y="38"/>
                  </a:lnTo>
                  <a:lnTo>
                    <a:pt x="28" y="38"/>
                  </a:lnTo>
                  <a:lnTo>
                    <a:pt x="35" y="34"/>
                  </a:lnTo>
                  <a:lnTo>
                    <a:pt x="42" y="33"/>
                  </a:lnTo>
                  <a:lnTo>
                    <a:pt x="48" y="31"/>
                  </a:lnTo>
                  <a:lnTo>
                    <a:pt x="55" y="28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1"/>
                  </a:lnTo>
                  <a:lnTo>
                    <a:pt x="83" y="18"/>
                  </a:lnTo>
                  <a:lnTo>
                    <a:pt x="89" y="16"/>
                  </a:lnTo>
                  <a:lnTo>
                    <a:pt x="96" y="16"/>
                  </a:lnTo>
                  <a:lnTo>
                    <a:pt x="102" y="15"/>
                  </a:lnTo>
                  <a:lnTo>
                    <a:pt x="109" y="16"/>
                  </a:lnTo>
                  <a:lnTo>
                    <a:pt x="114" y="18"/>
                  </a:lnTo>
                  <a:lnTo>
                    <a:pt x="125" y="34"/>
                  </a:lnTo>
                  <a:lnTo>
                    <a:pt x="138" y="44"/>
                  </a:lnTo>
                  <a:lnTo>
                    <a:pt x="150" y="51"/>
                  </a:lnTo>
                  <a:lnTo>
                    <a:pt x="163" y="52"/>
                  </a:lnTo>
                  <a:lnTo>
                    <a:pt x="175" y="52"/>
                  </a:lnTo>
                  <a:lnTo>
                    <a:pt x="188" y="49"/>
                  </a:lnTo>
                  <a:lnTo>
                    <a:pt x="199" y="46"/>
                  </a:lnTo>
                  <a:lnTo>
                    <a:pt x="212" y="41"/>
                  </a:lnTo>
                  <a:lnTo>
                    <a:pt x="220" y="39"/>
                  </a:lnTo>
                  <a:lnTo>
                    <a:pt x="227" y="36"/>
                  </a:lnTo>
                  <a:lnTo>
                    <a:pt x="235" y="34"/>
                  </a:lnTo>
                  <a:lnTo>
                    <a:pt x="242" y="33"/>
                  </a:lnTo>
                  <a:lnTo>
                    <a:pt x="250" y="31"/>
                  </a:lnTo>
                  <a:lnTo>
                    <a:pt x="257" y="31"/>
                  </a:lnTo>
                  <a:lnTo>
                    <a:pt x="265" y="31"/>
                  </a:lnTo>
                  <a:lnTo>
                    <a:pt x="271" y="33"/>
                  </a:lnTo>
                  <a:lnTo>
                    <a:pt x="275" y="36"/>
                  </a:lnTo>
                  <a:lnTo>
                    <a:pt x="285" y="42"/>
                  </a:lnTo>
                  <a:lnTo>
                    <a:pt x="299" y="54"/>
                  </a:lnTo>
                  <a:lnTo>
                    <a:pt x="319" y="70"/>
                  </a:lnTo>
                  <a:lnTo>
                    <a:pt x="329" y="77"/>
                  </a:lnTo>
                  <a:lnTo>
                    <a:pt x="339" y="80"/>
                  </a:lnTo>
                  <a:lnTo>
                    <a:pt x="347" y="80"/>
                  </a:lnTo>
                  <a:lnTo>
                    <a:pt x="357" y="80"/>
                  </a:lnTo>
                  <a:lnTo>
                    <a:pt x="365" y="79"/>
                  </a:lnTo>
                  <a:lnTo>
                    <a:pt x="373" y="75"/>
                  </a:lnTo>
                  <a:lnTo>
                    <a:pt x="380" y="72"/>
                  </a:lnTo>
                  <a:lnTo>
                    <a:pt x="388" y="67"/>
                  </a:lnTo>
                  <a:lnTo>
                    <a:pt x="395" y="64"/>
                  </a:lnTo>
                  <a:lnTo>
                    <a:pt x="401" y="61"/>
                  </a:lnTo>
                  <a:lnTo>
                    <a:pt x="408" y="59"/>
                  </a:lnTo>
                  <a:lnTo>
                    <a:pt x="413" y="57"/>
                  </a:lnTo>
                  <a:lnTo>
                    <a:pt x="419" y="56"/>
                  </a:lnTo>
                  <a:lnTo>
                    <a:pt x="426" y="56"/>
                  </a:lnTo>
                  <a:lnTo>
                    <a:pt x="431" y="57"/>
                  </a:lnTo>
                  <a:lnTo>
                    <a:pt x="437" y="59"/>
                  </a:lnTo>
                  <a:lnTo>
                    <a:pt x="444" y="69"/>
                  </a:lnTo>
                  <a:lnTo>
                    <a:pt x="450" y="77"/>
                  </a:lnTo>
                  <a:lnTo>
                    <a:pt x="457" y="84"/>
                  </a:lnTo>
                  <a:lnTo>
                    <a:pt x="465" y="90"/>
                  </a:lnTo>
                  <a:lnTo>
                    <a:pt x="473" y="97"/>
                  </a:lnTo>
                  <a:lnTo>
                    <a:pt x="480" y="100"/>
                  </a:lnTo>
                  <a:lnTo>
                    <a:pt x="488" y="105"/>
                  </a:lnTo>
                  <a:lnTo>
                    <a:pt x="496" y="107"/>
                  </a:lnTo>
                  <a:lnTo>
                    <a:pt x="508" y="108"/>
                  </a:lnTo>
                  <a:lnTo>
                    <a:pt x="521" y="108"/>
                  </a:lnTo>
                  <a:lnTo>
                    <a:pt x="531" y="107"/>
                  </a:lnTo>
                  <a:lnTo>
                    <a:pt x="542" y="103"/>
                  </a:lnTo>
                  <a:lnTo>
                    <a:pt x="551" y="98"/>
                  </a:lnTo>
                  <a:lnTo>
                    <a:pt x="560" y="93"/>
                  </a:lnTo>
                  <a:lnTo>
                    <a:pt x="567" y="88"/>
                  </a:lnTo>
                  <a:lnTo>
                    <a:pt x="573" y="85"/>
                  </a:lnTo>
                  <a:lnTo>
                    <a:pt x="575" y="84"/>
                  </a:lnTo>
                  <a:lnTo>
                    <a:pt x="577" y="82"/>
                  </a:lnTo>
                  <a:lnTo>
                    <a:pt x="578" y="82"/>
                  </a:lnTo>
                  <a:lnTo>
                    <a:pt x="580" y="80"/>
                  </a:lnTo>
                  <a:lnTo>
                    <a:pt x="583" y="79"/>
                  </a:lnTo>
                  <a:lnTo>
                    <a:pt x="585" y="75"/>
                  </a:lnTo>
                  <a:lnTo>
                    <a:pt x="585" y="74"/>
                  </a:lnTo>
                  <a:lnTo>
                    <a:pt x="58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42"/>
            <p:cNvSpPr/>
            <p:nvPr/>
          </p:nvSpPr>
          <p:spPr>
            <a:xfrm>
              <a:off x="6764400" y="4830840"/>
              <a:ext cx="465120" cy="806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84" h="104">
                  <a:moveTo>
                    <a:pt x="584" y="63"/>
                  </a:moveTo>
                  <a:lnTo>
                    <a:pt x="581" y="61"/>
                  </a:lnTo>
                  <a:lnTo>
                    <a:pt x="580" y="60"/>
                  </a:lnTo>
                  <a:lnTo>
                    <a:pt x="576" y="60"/>
                  </a:lnTo>
                  <a:lnTo>
                    <a:pt x="573" y="60"/>
                  </a:lnTo>
                  <a:lnTo>
                    <a:pt x="571" y="61"/>
                  </a:lnTo>
                  <a:lnTo>
                    <a:pt x="570" y="63"/>
                  </a:lnTo>
                  <a:lnTo>
                    <a:pt x="566" y="64"/>
                  </a:lnTo>
                  <a:lnTo>
                    <a:pt x="565" y="66"/>
                  </a:lnTo>
                  <a:lnTo>
                    <a:pt x="560" y="69"/>
                  </a:lnTo>
                  <a:lnTo>
                    <a:pt x="553" y="73"/>
                  </a:lnTo>
                  <a:lnTo>
                    <a:pt x="545" y="78"/>
                  </a:lnTo>
                  <a:lnTo>
                    <a:pt x="538" y="81"/>
                  </a:lnTo>
                  <a:lnTo>
                    <a:pt x="529" y="84"/>
                  </a:lnTo>
                  <a:lnTo>
                    <a:pt x="520" y="86"/>
                  </a:lnTo>
                  <a:lnTo>
                    <a:pt x="511" y="87"/>
                  </a:lnTo>
                  <a:lnTo>
                    <a:pt x="501" y="86"/>
                  </a:lnTo>
                  <a:lnTo>
                    <a:pt x="494" y="84"/>
                  </a:lnTo>
                  <a:lnTo>
                    <a:pt x="488" y="81"/>
                  </a:lnTo>
                  <a:lnTo>
                    <a:pt x="481" y="78"/>
                  </a:lnTo>
                  <a:lnTo>
                    <a:pt x="474" y="73"/>
                  </a:lnTo>
                  <a:lnTo>
                    <a:pt x="468" y="66"/>
                  </a:lnTo>
                  <a:lnTo>
                    <a:pt x="461" y="60"/>
                  </a:lnTo>
                  <a:lnTo>
                    <a:pt x="455" y="51"/>
                  </a:lnTo>
                  <a:lnTo>
                    <a:pt x="448" y="43"/>
                  </a:lnTo>
                  <a:lnTo>
                    <a:pt x="448" y="41"/>
                  </a:lnTo>
                  <a:lnTo>
                    <a:pt x="445" y="40"/>
                  </a:lnTo>
                  <a:lnTo>
                    <a:pt x="435" y="37"/>
                  </a:lnTo>
                  <a:lnTo>
                    <a:pt x="427" y="35"/>
                  </a:lnTo>
                  <a:lnTo>
                    <a:pt x="419" y="35"/>
                  </a:lnTo>
                  <a:lnTo>
                    <a:pt x="410" y="37"/>
                  </a:lnTo>
                  <a:lnTo>
                    <a:pt x="402" y="40"/>
                  </a:lnTo>
                  <a:lnTo>
                    <a:pt x="396" y="43"/>
                  </a:lnTo>
                  <a:lnTo>
                    <a:pt x="387" y="46"/>
                  </a:lnTo>
                  <a:lnTo>
                    <a:pt x="381" y="50"/>
                  </a:lnTo>
                  <a:lnTo>
                    <a:pt x="373" y="53"/>
                  </a:lnTo>
                  <a:lnTo>
                    <a:pt x="366" y="58"/>
                  </a:lnTo>
                  <a:lnTo>
                    <a:pt x="360" y="60"/>
                  </a:lnTo>
                  <a:lnTo>
                    <a:pt x="353" y="61"/>
                  </a:lnTo>
                  <a:lnTo>
                    <a:pt x="348" y="61"/>
                  </a:lnTo>
                  <a:lnTo>
                    <a:pt x="341" y="61"/>
                  </a:lnTo>
                  <a:lnTo>
                    <a:pt x="335" y="58"/>
                  </a:lnTo>
                  <a:lnTo>
                    <a:pt x="328" y="55"/>
                  </a:lnTo>
                  <a:lnTo>
                    <a:pt x="277" y="17"/>
                  </a:lnTo>
                  <a:lnTo>
                    <a:pt x="268" y="15"/>
                  </a:lnTo>
                  <a:lnTo>
                    <a:pt x="258" y="14"/>
                  </a:lnTo>
                  <a:lnTo>
                    <a:pt x="248" y="14"/>
                  </a:lnTo>
                  <a:lnTo>
                    <a:pt x="240" y="15"/>
                  </a:lnTo>
                  <a:lnTo>
                    <a:pt x="230" y="18"/>
                  </a:lnTo>
                  <a:lnTo>
                    <a:pt x="222" y="20"/>
                  </a:lnTo>
                  <a:lnTo>
                    <a:pt x="213" y="23"/>
                  </a:lnTo>
                  <a:lnTo>
                    <a:pt x="205" y="27"/>
                  </a:lnTo>
                  <a:lnTo>
                    <a:pt x="194" y="32"/>
                  </a:lnTo>
                  <a:lnTo>
                    <a:pt x="184" y="35"/>
                  </a:lnTo>
                  <a:lnTo>
                    <a:pt x="172" y="37"/>
                  </a:lnTo>
                  <a:lnTo>
                    <a:pt x="162" y="37"/>
                  </a:lnTo>
                  <a:lnTo>
                    <a:pt x="154" y="35"/>
                  </a:lnTo>
                  <a:lnTo>
                    <a:pt x="144" y="30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1" y="5"/>
                  </a:lnTo>
                  <a:lnTo>
                    <a:pt x="113" y="2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1" y="7"/>
                  </a:lnTo>
                  <a:lnTo>
                    <a:pt x="62" y="10"/>
                  </a:lnTo>
                  <a:lnTo>
                    <a:pt x="54" y="14"/>
                  </a:lnTo>
                  <a:lnTo>
                    <a:pt x="43" y="18"/>
                  </a:lnTo>
                  <a:lnTo>
                    <a:pt x="31" y="22"/>
                  </a:lnTo>
                  <a:lnTo>
                    <a:pt x="20" y="25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5" y="41"/>
                  </a:lnTo>
                  <a:lnTo>
                    <a:pt x="23" y="41"/>
                  </a:lnTo>
                  <a:lnTo>
                    <a:pt x="29" y="40"/>
                  </a:lnTo>
                  <a:lnTo>
                    <a:pt x="36" y="38"/>
                  </a:lnTo>
                  <a:lnTo>
                    <a:pt x="43" y="35"/>
                  </a:lnTo>
                  <a:lnTo>
                    <a:pt x="48" y="33"/>
                  </a:lnTo>
                  <a:lnTo>
                    <a:pt x="54" y="30"/>
                  </a:lnTo>
                  <a:lnTo>
                    <a:pt x="61" y="28"/>
                  </a:lnTo>
                  <a:lnTo>
                    <a:pt x="67" y="25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5" y="18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8" y="45"/>
                  </a:lnTo>
                  <a:lnTo>
                    <a:pt x="149" y="51"/>
                  </a:lnTo>
                  <a:lnTo>
                    <a:pt x="162" y="53"/>
                  </a:lnTo>
                  <a:lnTo>
                    <a:pt x="176" y="53"/>
                  </a:lnTo>
                  <a:lnTo>
                    <a:pt x="187" y="50"/>
                  </a:lnTo>
                  <a:lnTo>
                    <a:pt x="200" y="46"/>
                  </a:lnTo>
                  <a:lnTo>
                    <a:pt x="212" y="41"/>
                  </a:lnTo>
                  <a:lnTo>
                    <a:pt x="220" y="38"/>
                  </a:lnTo>
                  <a:lnTo>
                    <a:pt x="227" y="37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50" y="30"/>
                  </a:lnTo>
                  <a:lnTo>
                    <a:pt x="256" y="30"/>
                  </a:lnTo>
                  <a:lnTo>
                    <a:pt x="264" y="30"/>
                  </a:lnTo>
                  <a:lnTo>
                    <a:pt x="271" y="32"/>
                  </a:lnTo>
                  <a:lnTo>
                    <a:pt x="274" y="33"/>
                  </a:lnTo>
                  <a:lnTo>
                    <a:pt x="284" y="41"/>
                  </a:lnTo>
                  <a:lnTo>
                    <a:pt x="299" y="53"/>
                  </a:lnTo>
                  <a:lnTo>
                    <a:pt x="318" y="68"/>
                  </a:lnTo>
                  <a:lnTo>
                    <a:pt x="328" y="74"/>
                  </a:lnTo>
                  <a:lnTo>
                    <a:pt x="338" y="78"/>
                  </a:lnTo>
                  <a:lnTo>
                    <a:pt x="348" y="78"/>
                  </a:lnTo>
                  <a:lnTo>
                    <a:pt x="356" y="78"/>
                  </a:lnTo>
                  <a:lnTo>
                    <a:pt x="366" y="74"/>
                  </a:lnTo>
                  <a:lnTo>
                    <a:pt x="374" y="73"/>
                  </a:lnTo>
                  <a:lnTo>
                    <a:pt x="381" y="68"/>
                  </a:lnTo>
                  <a:lnTo>
                    <a:pt x="389" y="64"/>
                  </a:lnTo>
                  <a:lnTo>
                    <a:pt x="401" y="58"/>
                  </a:lnTo>
                  <a:lnTo>
                    <a:pt x="414" y="53"/>
                  </a:lnTo>
                  <a:lnTo>
                    <a:pt x="425" y="51"/>
                  </a:lnTo>
                  <a:lnTo>
                    <a:pt x="437" y="55"/>
                  </a:lnTo>
                  <a:lnTo>
                    <a:pt x="443" y="64"/>
                  </a:lnTo>
                  <a:lnTo>
                    <a:pt x="451" y="73"/>
                  </a:lnTo>
                  <a:lnTo>
                    <a:pt x="458" y="79"/>
                  </a:lnTo>
                  <a:lnTo>
                    <a:pt x="466" y="86"/>
                  </a:lnTo>
                  <a:lnTo>
                    <a:pt x="473" y="92"/>
                  </a:lnTo>
                  <a:lnTo>
                    <a:pt x="481" y="96"/>
                  </a:lnTo>
                  <a:lnTo>
                    <a:pt x="489" y="101"/>
                  </a:lnTo>
                  <a:lnTo>
                    <a:pt x="497" y="102"/>
                  </a:lnTo>
                  <a:lnTo>
                    <a:pt x="509" y="104"/>
                  </a:lnTo>
                  <a:lnTo>
                    <a:pt x="520" y="102"/>
                  </a:lnTo>
                  <a:lnTo>
                    <a:pt x="532" y="101"/>
                  </a:lnTo>
                  <a:lnTo>
                    <a:pt x="542" y="97"/>
                  </a:lnTo>
                  <a:lnTo>
                    <a:pt x="552" y="92"/>
                  </a:lnTo>
                  <a:lnTo>
                    <a:pt x="560" y="87"/>
                  </a:lnTo>
                  <a:lnTo>
                    <a:pt x="566" y="83"/>
                  </a:lnTo>
                  <a:lnTo>
                    <a:pt x="573" y="79"/>
                  </a:lnTo>
                  <a:lnTo>
                    <a:pt x="575" y="78"/>
                  </a:lnTo>
                  <a:lnTo>
                    <a:pt x="578" y="76"/>
                  </a:lnTo>
                  <a:lnTo>
                    <a:pt x="580" y="74"/>
                  </a:lnTo>
                  <a:lnTo>
                    <a:pt x="581" y="74"/>
                  </a:lnTo>
                  <a:lnTo>
                    <a:pt x="583" y="73"/>
                  </a:lnTo>
                  <a:lnTo>
                    <a:pt x="584" y="69"/>
                  </a:lnTo>
                  <a:lnTo>
                    <a:pt x="584" y="66"/>
                  </a:lnTo>
                  <a:lnTo>
                    <a:pt x="58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43"/>
            <p:cNvSpPr/>
            <p:nvPr/>
          </p:nvSpPr>
          <p:spPr>
            <a:xfrm>
              <a:off x="6724800" y="4938480"/>
              <a:ext cx="463320" cy="763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5" h="95">
                  <a:moveTo>
                    <a:pt x="583" y="54"/>
                  </a:moveTo>
                  <a:lnTo>
                    <a:pt x="581" y="51"/>
                  </a:lnTo>
                  <a:lnTo>
                    <a:pt x="578" y="49"/>
                  </a:lnTo>
                  <a:lnTo>
                    <a:pt x="576" y="49"/>
                  </a:lnTo>
                  <a:lnTo>
                    <a:pt x="573" y="51"/>
                  </a:lnTo>
                  <a:lnTo>
                    <a:pt x="571" y="51"/>
                  </a:lnTo>
                  <a:lnTo>
                    <a:pt x="568" y="52"/>
                  </a:lnTo>
                  <a:lnTo>
                    <a:pt x="566" y="54"/>
                  </a:lnTo>
                  <a:lnTo>
                    <a:pt x="563" y="56"/>
                  </a:lnTo>
                  <a:lnTo>
                    <a:pt x="558" y="59"/>
                  </a:lnTo>
                  <a:lnTo>
                    <a:pt x="552" y="64"/>
                  </a:lnTo>
                  <a:lnTo>
                    <a:pt x="545" y="69"/>
                  </a:lnTo>
                  <a:lnTo>
                    <a:pt x="537" y="72"/>
                  </a:lnTo>
                  <a:lnTo>
                    <a:pt x="529" y="75"/>
                  </a:lnTo>
                  <a:lnTo>
                    <a:pt x="521" y="77"/>
                  </a:lnTo>
                  <a:lnTo>
                    <a:pt x="511" y="79"/>
                  </a:lnTo>
                  <a:lnTo>
                    <a:pt x="501" y="77"/>
                  </a:lnTo>
                  <a:lnTo>
                    <a:pt x="494" y="75"/>
                  </a:lnTo>
                  <a:lnTo>
                    <a:pt x="486" y="72"/>
                  </a:lnTo>
                  <a:lnTo>
                    <a:pt x="479" y="69"/>
                  </a:lnTo>
                  <a:lnTo>
                    <a:pt x="473" y="64"/>
                  </a:lnTo>
                  <a:lnTo>
                    <a:pt x="466" y="59"/>
                  </a:lnTo>
                  <a:lnTo>
                    <a:pt x="461" y="52"/>
                  </a:lnTo>
                  <a:lnTo>
                    <a:pt x="455" y="44"/>
                  </a:lnTo>
                  <a:lnTo>
                    <a:pt x="448" y="36"/>
                  </a:lnTo>
                  <a:lnTo>
                    <a:pt x="447" y="34"/>
                  </a:lnTo>
                  <a:lnTo>
                    <a:pt x="445" y="33"/>
                  </a:lnTo>
                  <a:lnTo>
                    <a:pt x="435" y="29"/>
                  </a:lnTo>
                  <a:lnTo>
                    <a:pt x="427" y="28"/>
                  </a:lnTo>
                  <a:lnTo>
                    <a:pt x="419" y="28"/>
                  </a:lnTo>
                  <a:lnTo>
                    <a:pt x="411" y="29"/>
                  </a:lnTo>
                  <a:lnTo>
                    <a:pt x="402" y="33"/>
                  </a:lnTo>
                  <a:lnTo>
                    <a:pt x="394" y="36"/>
                  </a:lnTo>
                  <a:lnTo>
                    <a:pt x="388" y="39"/>
                  </a:lnTo>
                  <a:lnTo>
                    <a:pt x="381" y="44"/>
                  </a:lnTo>
                  <a:lnTo>
                    <a:pt x="373" y="47"/>
                  </a:lnTo>
                  <a:lnTo>
                    <a:pt x="366" y="52"/>
                  </a:lnTo>
                  <a:lnTo>
                    <a:pt x="360" y="54"/>
                  </a:lnTo>
                  <a:lnTo>
                    <a:pt x="353" y="56"/>
                  </a:lnTo>
                  <a:lnTo>
                    <a:pt x="346" y="57"/>
                  </a:lnTo>
                  <a:lnTo>
                    <a:pt x="340" y="56"/>
                  </a:lnTo>
                  <a:lnTo>
                    <a:pt x="333" y="54"/>
                  </a:lnTo>
                  <a:lnTo>
                    <a:pt x="327" y="51"/>
                  </a:lnTo>
                  <a:lnTo>
                    <a:pt x="276" y="11"/>
                  </a:lnTo>
                  <a:lnTo>
                    <a:pt x="266" y="10"/>
                  </a:lnTo>
                  <a:lnTo>
                    <a:pt x="256" y="10"/>
                  </a:lnTo>
                  <a:lnTo>
                    <a:pt x="248" y="10"/>
                  </a:lnTo>
                  <a:lnTo>
                    <a:pt x="238" y="11"/>
                  </a:lnTo>
                  <a:lnTo>
                    <a:pt x="230" y="15"/>
                  </a:lnTo>
                  <a:lnTo>
                    <a:pt x="222" y="16"/>
                  </a:lnTo>
                  <a:lnTo>
                    <a:pt x="213" y="19"/>
                  </a:lnTo>
                  <a:lnTo>
                    <a:pt x="205" y="23"/>
                  </a:lnTo>
                  <a:lnTo>
                    <a:pt x="194" y="28"/>
                  </a:lnTo>
                  <a:lnTo>
                    <a:pt x="182" y="31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3" y="33"/>
                  </a:lnTo>
                  <a:lnTo>
                    <a:pt x="143" y="28"/>
                  </a:lnTo>
                  <a:lnTo>
                    <a:pt x="133" y="19"/>
                  </a:lnTo>
                  <a:lnTo>
                    <a:pt x="123" y="6"/>
                  </a:lnTo>
                  <a:lnTo>
                    <a:pt x="123" y="5"/>
                  </a:lnTo>
                  <a:lnTo>
                    <a:pt x="120" y="5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3"/>
                  </a:lnTo>
                  <a:lnTo>
                    <a:pt x="69" y="6"/>
                  </a:lnTo>
                  <a:lnTo>
                    <a:pt x="61" y="10"/>
                  </a:lnTo>
                  <a:lnTo>
                    <a:pt x="53" y="13"/>
                  </a:lnTo>
                  <a:lnTo>
                    <a:pt x="41" y="18"/>
                  </a:lnTo>
                  <a:lnTo>
                    <a:pt x="30" y="21"/>
                  </a:lnTo>
                  <a:lnTo>
                    <a:pt x="18" y="24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5" y="42"/>
                  </a:lnTo>
                  <a:lnTo>
                    <a:pt x="21" y="41"/>
                  </a:lnTo>
                  <a:lnTo>
                    <a:pt x="28" y="39"/>
                  </a:lnTo>
                  <a:lnTo>
                    <a:pt x="35" y="38"/>
                  </a:lnTo>
                  <a:lnTo>
                    <a:pt x="41" y="36"/>
                  </a:lnTo>
                  <a:lnTo>
                    <a:pt x="46" y="33"/>
                  </a:lnTo>
                  <a:lnTo>
                    <a:pt x="53" y="31"/>
                  </a:lnTo>
                  <a:lnTo>
                    <a:pt x="59" y="28"/>
                  </a:lnTo>
                  <a:lnTo>
                    <a:pt x="66" y="24"/>
                  </a:lnTo>
                  <a:lnTo>
                    <a:pt x="74" y="21"/>
                  </a:lnTo>
                  <a:lnTo>
                    <a:pt x="80" y="19"/>
                  </a:lnTo>
                  <a:lnTo>
                    <a:pt x="87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6" y="42"/>
                  </a:lnTo>
                  <a:lnTo>
                    <a:pt x="149" y="49"/>
                  </a:lnTo>
                  <a:lnTo>
                    <a:pt x="161" y="51"/>
                  </a:lnTo>
                  <a:lnTo>
                    <a:pt x="174" y="49"/>
                  </a:lnTo>
                  <a:lnTo>
                    <a:pt x="186" y="47"/>
                  </a:lnTo>
                  <a:lnTo>
                    <a:pt x="199" y="42"/>
                  </a:lnTo>
                  <a:lnTo>
                    <a:pt x="210" y="38"/>
                  </a:lnTo>
                  <a:lnTo>
                    <a:pt x="218" y="34"/>
                  </a:lnTo>
                  <a:lnTo>
                    <a:pt x="225" y="31"/>
                  </a:lnTo>
                  <a:lnTo>
                    <a:pt x="233" y="29"/>
                  </a:lnTo>
                  <a:lnTo>
                    <a:pt x="240" y="26"/>
                  </a:lnTo>
                  <a:lnTo>
                    <a:pt x="248" y="26"/>
                  </a:lnTo>
                  <a:lnTo>
                    <a:pt x="255" y="24"/>
                  </a:lnTo>
                  <a:lnTo>
                    <a:pt x="263" y="24"/>
                  </a:lnTo>
                  <a:lnTo>
                    <a:pt x="269" y="26"/>
                  </a:lnTo>
                  <a:lnTo>
                    <a:pt x="271" y="26"/>
                  </a:lnTo>
                  <a:lnTo>
                    <a:pt x="273" y="29"/>
                  </a:lnTo>
                  <a:lnTo>
                    <a:pt x="276" y="33"/>
                  </a:lnTo>
                  <a:lnTo>
                    <a:pt x="282" y="36"/>
                  </a:lnTo>
                  <a:lnTo>
                    <a:pt x="289" y="42"/>
                  </a:lnTo>
                  <a:lnTo>
                    <a:pt x="297" y="47"/>
                  </a:lnTo>
                  <a:lnTo>
                    <a:pt x="307" y="56"/>
                  </a:lnTo>
                  <a:lnTo>
                    <a:pt x="319" y="64"/>
                  </a:lnTo>
                  <a:lnTo>
                    <a:pt x="328" y="69"/>
                  </a:lnTo>
                  <a:lnTo>
                    <a:pt x="338" y="72"/>
                  </a:lnTo>
                  <a:lnTo>
                    <a:pt x="346" y="72"/>
                  </a:lnTo>
                  <a:lnTo>
                    <a:pt x="356" y="72"/>
                  </a:lnTo>
                  <a:lnTo>
                    <a:pt x="365" y="69"/>
                  </a:lnTo>
                  <a:lnTo>
                    <a:pt x="373" y="65"/>
                  </a:lnTo>
                  <a:lnTo>
                    <a:pt x="379" y="62"/>
                  </a:lnTo>
                  <a:lnTo>
                    <a:pt x="388" y="57"/>
                  </a:lnTo>
                  <a:lnTo>
                    <a:pt x="394" y="54"/>
                  </a:lnTo>
                  <a:lnTo>
                    <a:pt x="399" y="51"/>
                  </a:lnTo>
                  <a:lnTo>
                    <a:pt x="406" y="47"/>
                  </a:lnTo>
                  <a:lnTo>
                    <a:pt x="412" y="46"/>
                  </a:lnTo>
                  <a:lnTo>
                    <a:pt x="417" y="46"/>
                  </a:lnTo>
                  <a:lnTo>
                    <a:pt x="424" y="44"/>
                  </a:lnTo>
                  <a:lnTo>
                    <a:pt x="430" y="46"/>
                  </a:lnTo>
                  <a:lnTo>
                    <a:pt x="437" y="47"/>
                  </a:lnTo>
                  <a:lnTo>
                    <a:pt x="443" y="57"/>
                  </a:lnTo>
                  <a:lnTo>
                    <a:pt x="450" y="65"/>
                  </a:lnTo>
                  <a:lnTo>
                    <a:pt x="458" y="72"/>
                  </a:lnTo>
                  <a:lnTo>
                    <a:pt x="465" y="79"/>
                  </a:lnTo>
                  <a:lnTo>
                    <a:pt x="473" y="84"/>
                  </a:lnTo>
                  <a:lnTo>
                    <a:pt x="481" y="88"/>
                  </a:lnTo>
                  <a:lnTo>
                    <a:pt x="489" y="92"/>
                  </a:lnTo>
                  <a:lnTo>
                    <a:pt x="498" y="93"/>
                  </a:lnTo>
                  <a:lnTo>
                    <a:pt x="509" y="95"/>
                  </a:lnTo>
                  <a:lnTo>
                    <a:pt x="521" y="93"/>
                  </a:lnTo>
                  <a:lnTo>
                    <a:pt x="532" y="92"/>
                  </a:lnTo>
                  <a:lnTo>
                    <a:pt x="542" y="88"/>
                  </a:lnTo>
                  <a:lnTo>
                    <a:pt x="552" y="84"/>
                  </a:lnTo>
                  <a:lnTo>
                    <a:pt x="560" y="79"/>
                  </a:lnTo>
                  <a:lnTo>
                    <a:pt x="566" y="74"/>
                  </a:lnTo>
                  <a:lnTo>
                    <a:pt x="573" y="69"/>
                  </a:lnTo>
                  <a:lnTo>
                    <a:pt x="575" y="67"/>
                  </a:lnTo>
                  <a:lnTo>
                    <a:pt x="576" y="65"/>
                  </a:lnTo>
                  <a:lnTo>
                    <a:pt x="578" y="65"/>
                  </a:lnTo>
                  <a:lnTo>
                    <a:pt x="580" y="64"/>
                  </a:lnTo>
                  <a:lnTo>
                    <a:pt x="583" y="62"/>
                  </a:lnTo>
                  <a:lnTo>
                    <a:pt x="585" y="59"/>
                  </a:lnTo>
                  <a:lnTo>
                    <a:pt x="585" y="57"/>
                  </a:lnTo>
                  <a:lnTo>
                    <a:pt x="58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44"/>
            <p:cNvSpPr/>
            <p:nvPr/>
          </p:nvSpPr>
          <p:spPr>
            <a:xfrm>
              <a:off x="6683400" y="5046480"/>
              <a:ext cx="463680" cy="698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584" h="87">
                  <a:moveTo>
                    <a:pt x="584" y="44"/>
                  </a:moveTo>
                  <a:lnTo>
                    <a:pt x="581" y="43"/>
                  </a:lnTo>
                  <a:lnTo>
                    <a:pt x="579" y="41"/>
                  </a:lnTo>
                  <a:lnTo>
                    <a:pt x="576" y="41"/>
                  </a:lnTo>
                  <a:lnTo>
                    <a:pt x="573" y="41"/>
                  </a:lnTo>
                  <a:lnTo>
                    <a:pt x="571" y="43"/>
                  </a:lnTo>
                  <a:lnTo>
                    <a:pt x="569" y="44"/>
                  </a:lnTo>
                  <a:lnTo>
                    <a:pt x="566" y="46"/>
                  </a:lnTo>
                  <a:lnTo>
                    <a:pt x="564" y="48"/>
                  </a:lnTo>
                  <a:lnTo>
                    <a:pt x="559" y="51"/>
                  </a:lnTo>
                  <a:lnTo>
                    <a:pt x="553" y="56"/>
                  </a:lnTo>
                  <a:lnTo>
                    <a:pt x="546" y="61"/>
                  </a:lnTo>
                  <a:lnTo>
                    <a:pt x="538" y="64"/>
                  </a:lnTo>
                  <a:lnTo>
                    <a:pt x="530" y="67"/>
                  </a:lnTo>
                  <a:lnTo>
                    <a:pt x="522" y="69"/>
                  </a:lnTo>
                  <a:lnTo>
                    <a:pt x="512" y="71"/>
                  </a:lnTo>
                  <a:lnTo>
                    <a:pt x="502" y="71"/>
                  </a:lnTo>
                  <a:lnTo>
                    <a:pt x="495" y="69"/>
                  </a:lnTo>
                  <a:lnTo>
                    <a:pt x="487" y="66"/>
                  </a:lnTo>
                  <a:lnTo>
                    <a:pt x="481" y="63"/>
                  </a:lnTo>
                  <a:lnTo>
                    <a:pt x="474" y="58"/>
                  </a:lnTo>
                  <a:lnTo>
                    <a:pt x="467" y="53"/>
                  </a:lnTo>
                  <a:lnTo>
                    <a:pt x="461" y="46"/>
                  </a:lnTo>
                  <a:lnTo>
                    <a:pt x="454" y="38"/>
                  </a:lnTo>
                  <a:lnTo>
                    <a:pt x="448" y="30"/>
                  </a:lnTo>
                  <a:lnTo>
                    <a:pt x="446" y="26"/>
                  </a:lnTo>
                  <a:lnTo>
                    <a:pt x="444" y="26"/>
                  </a:lnTo>
                  <a:lnTo>
                    <a:pt x="435" y="23"/>
                  </a:lnTo>
                  <a:lnTo>
                    <a:pt x="426" y="21"/>
                  </a:lnTo>
                  <a:lnTo>
                    <a:pt x="418" y="23"/>
                  </a:lnTo>
                  <a:lnTo>
                    <a:pt x="410" y="25"/>
                  </a:lnTo>
                  <a:lnTo>
                    <a:pt x="402" y="26"/>
                  </a:lnTo>
                  <a:lnTo>
                    <a:pt x="394" y="30"/>
                  </a:lnTo>
                  <a:lnTo>
                    <a:pt x="387" y="35"/>
                  </a:lnTo>
                  <a:lnTo>
                    <a:pt x="380" y="38"/>
                  </a:lnTo>
                  <a:lnTo>
                    <a:pt x="372" y="43"/>
                  </a:lnTo>
                  <a:lnTo>
                    <a:pt x="366" y="46"/>
                  </a:lnTo>
                  <a:lnTo>
                    <a:pt x="359" y="49"/>
                  </a:lnTo>
                  <a:lnTo>
                    <a:pt x="353" y="51"/>
                  </a:lnTo>
                  <a:lnTo>
                    <a:pt x="348" y="53"/>
                  </a:lnTo>
                  <a:lnTo>
                    <a:pt x="341" y="51"/>
                  </a:lnTo>
                  <a:lnTo>
                    <a:pt x="334" y="49"/>
                  </a:lnTo>
                  <a:lnTo>
                    <a:pt x="328" y="46"/>
                  </a:lnTo>
                  <a:lnTo>
                    <a:pt x="275" y="8"/>
                  </a:lnTo>
                  <a:lnTo>
                    <a:pt x="265" y="7"/>
                  </a:lnTo>
                  <a:lnTo>
                    <a:pt x="256" y="7"/>
                  </a:lnTo>
                  <a:lnTo>
                    <a:pt x="247" y="7"/>
                  </a:lnTo>
                  <a:lnTo>
                    <a:pt x="238" y="8"/>
                  </a:lnTo>
                  <a:lnTo>
                    <a:pt x="229" y="12"/>
                  </a:lnTo>
                  <a:lnTo>
                    <a:pt x="221" y="15"/>
                  </a:lnTo>
                  <a:lnTo>
                    <a:pt x="213" y="18"/>
                  </a:lnTo>
                  <a:lnTo>
                    <a:pt x="205" y="21"/>
                  </a:lnTo>
                  <a:lnTo>
                    <a:pt x="193" y="26"/>
                  </a:lnTo>
                  <a:lnTo>
                    <a:pt x="182" y="30"/>
                  </a:lnTo>
                  <a:lnTo>
                    <a:pt x="172" y="33"/>
                  </a:lnTo>
                  <a:lnTo>
                    <a:pt x="162" y="33"/>
                  </a:lnTo>
                  <a:lnTo>
                    <a:pt x="152" y="31"/>
                  </a:lnTo>
                  <a:lnTo>
                    <a:pt x="142" y="26"/>
                  </a:lnTo>
                  <a:lnTo>
                    <a:pt x="132" y="18"/>
                  </a:lnTo>
                  <a:lnTo>
                    <a:pt x="123" y="5"/>
                  </a:lnTo>
                  <a:lnTo>
                    <a:pt x="121" y="3"/>
                  </a:lnTo>
                  <a:lnTo>
                    <a:pt x="119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8" y="3"/>
                  </a:lnTo>
                  <a:lnTo>
                    <a:pt x="68" y="7"/>
                  </a:lnTo>
                  <a:lnTo>
                    <a:pt x="60" y="10"/>
                  </a:lnTo>
                  <a:lnTo>
                    <a:pt x="52" y="13"/>
                  </a:lnTo>
                  <a:lnTo>
                    <a:pt x="41" y="18"/>
                  </a:lnTo>
                  <a:lnTo>
                    <a:pt x="31" y="23"/>
                  </a:lnTo>
                  <a:lnTo>
                    <a:pt x="19" y="26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4" y="44"/>
                  </a:lnTo>
                  <a:lnTo>
                    <a:pt x="8" y="44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7" y="40"/>
                  </a:lnTo>
                  <a:lnTo>
                    <a:pt x="34" y="38"/>
                  </a:lnTo>
                  <a:lnTo>
                    <a:pt x="41" y="36"/>
                  </a:lnTo>
                  <a:lnTo>
                    <a:pt x="47" y="33"/>
                  </a:lnTo>
                  <a:lnTo>
                    <a:pt x="54" y="31"/>
                  </a:lnTo>
                  <a:lnTo>
                    <a:pt x="59" y="28"/>
                  </a:lnTo>
                  <a:lnTo>
                    <a:pt x="65" y="25"/>
                  </a:lnTo>
                  <a:lnTo>
                    <a:pt x="73" y="21"/>
                  </a:lnTo>
                  <a:lnTo>
                    <a:pt x="80" y="18"/>
                  </a:lnTo>
                  <a:lnTo>
                    <a:pt x="87" y="17"/>
                  </a:lnTo>
                  <a:lnTo>
                    <a:pt x="93" y="15"/>
                  </a:lnTo>
                  <a:lnTo>
                    <a:pt x="100" y="15"/>
                  </a:lnTo>
                  <a:lnTo>
                    <a:pt x="106" y="15"/>
                  </a:lnTo>
                  <a:lnTo>
                    <a:pt x="111" y="17"/>
                  </a:lnTo>
                  <a:lnTo>
                    <a:pt x="124" y="31"/>
                  </a:lnTo>
                  <a:lnTo>
                    <a:pt x="137" y="41"/>
                  </a:lnTo>
                  <a:lnTo>
                    <a:pt x="151" y="48"/>
                  </a:lnTo>
                  <a:lnTo>
                    <a:pt x="162" y="49"/>
                  </a:lnTo>
                  <a:lnTo>
                    <a:pt x="175" y="48"/>
                  </a:lnTo>
                  <a:lnTo>
                    <a:pt x="187" y="46"/>
                  </a:lnTo>
                  <a:lnTo>
                    <a:pt x="200" y="41"/>
                  </a:lnTo>
                  <a:lnTo>
                    <a:pt x="211" y="36"/>
                  </a:lnTo>
                  <a:lnTo>
                    <a:pt x="218" y="33"/>
                  </a:lnTo>
                  <a:lnTo>
                    <a:pt x="224" y="30"/>
                  </a:lnTo>
                  <a:lnTo>
                    <a:pt x="233" y="26"/>
                  </a:lnTo>
                  <a:lnTo>
                    <a:pt x="239" y="25"/>
                  </a:lnTo>
                  <a:lnTo>
                    <a:pt x="247" y="23"/>
                  </a:lnTo>
                  <a:lnTo>
                    <a:pt x="254" y="21"/>
                  </a:lnTo>
                  <a:lnTo>
                    <a:pt x="262" y="21"/>
                  </a:lnTo>
                  <a:lnTo>
                    <a:pt x="269" y="23"/>
                  </a:lnTo>
                  <a:lnTo>
                    <a:pt x="270" y="23"/>
                  </a:lnTo>
                  <a:lnTo>
                    <a:pt x="272" y="25"/>
                  </a:lnTo>
                  <a:lnTo>
                    <a:pt x="277" y="28"/>
                  </a:lnTo>
                  <a:lnTo>
                    <a:pt x="282" y="33"/>
                  </a:lnTo>
                  <a:lnTo>
                    <a:pt x="290" y="38"/>
                  </a:lnTo>
                  <a:lnTo>
                    <a:pt x="298" y="44"/>
                  </a:lnTo>
                  <a:lnTo>
                    <a:pt x="308" y="51"/>
                  </a:lnTo>
                  <a:lnTo>
                    <a:pt x="318" y="59"/>
                  </a:lnTo>
                  <a:lnTo>
                    <a:pt x="328" y="64"/>
                  </a:lnTo>
                  <a:lnTo>
                    <a:pt x="338" y="67"/>
                  </a:lnTo>
                  <a:lnTo>
                    <a:pt x="348" y="67"/>
                  </a:lnTo>
                  <a:lnTo>
                    <a:pt x="356" y="67"/>
                  </a:lnTo>
                  <a:lnTo>
                    <a:pt x="366" y="64"/>
                  </a:lnTo>
                  <a:lnTo>
                    <a:pt x="374" y="61"/>
                  </a:lnTo>
                  <a:lnTo>
                    <a:pt x="380" y="58"/>
                  </a:lnTo>
                  <a:lnTo>
                    <a:pt x="389" y="53"/>
                  </a:lnTo>
                  <a:lnTo>
                    <a:pt x="400" y="46"/>
                  </a:lnTo>
                  <a:lnTo>
                    <a:pt x="412" y="41"/>
                  </a:lnTo>
                  <a:lnTo>
                    <a:pt x="423" y="38"/>
                  </a:lnTo>
                  <a:lnTo>
                    <a:pt x="436" y="40"/>
                  </a:lnTo>
                  <a:lnTo>
                    <a:pt x="443" y="49"/>
                  </a:lnTo>
                  <a:lnTo>
                    <a:pt x="451" y="58"/>
                  </a:lnTo>
                  <a:lnTo>
                    <a:pt x="458" y="66"/>
                  </a:lnTo>
                  <a:lnTo>
                    <a:pt x="466" y="72"/>
                  </a:lnTo>
                  <a:lnTo>
                    <a:pt x="474" y="77"/>
                  </a:lnTo>
                  <a:lnTo>
                    <a:pt x="482" y="81"/>
                  </a:lnTo>
                  <a:lnTo>
                    <a:pt x="490" y="84"/>
                  </a:lnTo>
                  <a:lnTo>
                    <a:pt x="499" y="86"/>
                  </a:lnTo>
                  <a:lnTo>
                    <a:pt x="510" y="87"/>
                  </a:lnTo>
                  <a:lnTo>
                    <a:pt x="522" y="86"/>
                  </a:lnTo>
                  <a:lnTo>
                    <a:pt x="533" y="84"/>
                  </a:lnTo>
                  <a:lnTo>
                    <a:pt x="543" y="79"/>
                  </a:lnTo>
                  <a:lnTo>
                    <a:pt x="553" y="74"/>
                  </a:lnTo>
                  <a:lnTo>
                    <a:pt x="561" y="69"/>
                  </a:lnTo>
                  <a:lnTo>
                    <a:pt x="568" y="66"/>
                  </a:lnTo>
                  <a:lnTo>
                    <a:pt x="574" y="61"/>
                  </a:lnTo>
                  <a:lnTo>
                    <a:pt x="576" y="59"/>
                  </a:lnTo>
                  <a:lnTo>
                    <a:pt x="577" y="58"/>
                  </a:lnTo>
                  <a:lnTo>
                    <a:pt x="579" y="56"/>
                  </a:lnTo>
                  <a:lnTo>
                    <a:pt x="581" y="56"/>
                  </a:lnTo>
                  <a:lnTo>
                    <a:pt x="582" y="53"/>
                  </a:lnTo>
                  <a:lnTo>
                    <a:pt x="584" y="49"/>
                  </a:lnTo>
                  <a:lnTo>
                    <a:pt x="584" y="48"/>
                  </a:lnTo>
                  <a:lnTo>
                    <a:pt x="58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45"/>
            <p:cNvSpPr/>
            <p:nvPr/>
          </p:nvSpPr>
          <p:spPr>
            <a:xfrm>
              <a:off x="6640560" y="5153040"/>
              <a:ext cx="466560" cy="651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86" h="80">
                  <a:moveTo>
                    <a:pt x="584" y="36"/>
                  </a:moveTo>
                  <a:lnTo>
                    <a:pt x="583" y="34"/>
                  </a:lnTo>
                  <a:lnTo>
                    <a:pt x="580" y="33"/>
                  </a:lnTo>
                  <a:lnTo>
                    <a:pt x="576" y="33"/>
                  </a:lnTo>
                  <a:lnTo>
                    <a:pt x="573" y="34"/>
                  </a:lnTo>
                  <a:lnTo>
                    <a:pt x="571" y="34"/>
                  </a:lnTo>
                  <a:lnTo>
                    <a:pt x="570" y="36"/>
                  </a:lnTo>
                  <a:lnTo>
                    <a:pt x="566" y="38"/>
                  </a:lnTo>
                  <a:lnTo>
                    <a:pt x="565" y="39"/>
                  </a:lnTo>
                  <a:lnTo>
                    <a:pt x="560" y="43"/>
                  </a:lnTo>
                  <a:lnTo>
                    <a:pt x="553" y="47"/>
                  </a:lnTo>
                  <a:lnTo>
                    <a:pt x="547" y="52"/>
                  </a:lnTo>
                  <a:lnTo>
                    <a:pt x="538" y="56"/>
                  </a:lnTo>
                  <a:lnTo>
                    <a:pt x="530" y="61"/>
                  </a:lnTo>
                  <a:lnTo>
                    <a:pt x="522" y="62"/>
                  </a:lnTo>
                  <a:lnTo>
                    <a:pt x="512" y="64"/>
                  </a:lnTo>
                  <a:lnTo>
                    <a:pt x="502" y="64"/>
                  </a:lnTo>
                  <a:lnTo>
                    <a:pt x="496" y="62"/>
                  </a:lnTo>
                  <a:lnTo>
                    <a:pt x="489" y="59"/>
                  </a:lnTo>
                  <a:lnTo>
                    <a:pt x="483" y="56"/>
                  </a:lnTo>
                  <a:lnTo>
                    <a:pt x="476" y="51"/>
                  </a:lnTo>
                  <a:lnTo>
                    <a:pt x="468" y="46"/>
                  </a:lnTo>
                  <a:lnTo>
                    <a:pt x="461" y="39"/>
                  </a:lnTo>
                  <a:lnTo>
                    <a:pt x="455" y="31"/>
                  </a:lnTo>
                  <a:lnTo>
                    <a:pt x="448" y="23"/>
                  </a:lnTo>
                  <a:lnTo>
                    <a:pt x="447" y="21"/>
                  </a:lnTo>
                  <a:lnTo>
                    <a:pt x="445" y="21"/>
                  </a:lnTo>
                  <a:lnTo>
                    <a:pt x="435" y="18"/>
                  </a:lnTo>
                  <a:lnTo>
                    <a:pt x="427" y="18"/>
                  </a:lnTo>
                  <a:lnTo>
                    <a:pt x="419" y="18"/>
                  </a:lnTo>
                  <a:lnTo>
                    <a:pt x="410" y="20"/>
                  </a:lnTo>
                  <a:lnTo>
                    <a:pt x="402" y="23"/>
                  </a:lnTo>
                  <a:lnTo>
                    <a:pt x="394" y="26"/>
                  </a:lnTo>
                  <a:lnTo>
                    <a:pt x="387" y="29"/>
                  </a:lnTo>
                  <a:lnTo>
                    <a:pt x="381" y="34"/>
                  </a:lnTo>
                  <a:lnTo>
                    <a:pt x="374" y="39"/>
                  </a:lnTo>
                  <a:lnTo>
                    <a:pt x="366" y="43"/>
                  </a:lnTo>
                  <a:lnTo>
                    <a:pt x="361" y="46"/>
                  </a:lnTo>
                  <a:lnTo>
                    <a:pt x="355" y="47"/>
                  </a:lnTo>
                  <a:lnTo>
                    <a:pt x="348" y="49"/>
                  </a:lnTo>
                  <a:lnTo>
                    <a:pt x="341" y="47"/>
                  </a:lnTo>
                  <a:lnTo>
                    <a:pt x="335" y="46"/>
                  </a:lnTo>
                  <a:lnTo>
                    <a:pt x="328" y="43"/>
                  </a:lnTo>
                  <a:lnTo>
                    <a:pt x="276" y="6"/>
                  </a:lnTo>
                  <a:lnTo>
                    <a:pt x="266" y="5"/>
                  </a:lnTo>
                  <a:lnTo>
                    <a:pt x="256" y="5"/>
                  </a:lnTo>
                  <a:lnTo>
                    <a:pt x="248" y="5"/>
                  </a:lnTo>
                  <a:lnTo>
                    <a:pt x="238" y="6"/>
                  </a:lnTo>
                  <a:lnTo>
                    <a:pt x="230" y="10"/>
                  </a:lnTo>
                  <a:lnTo>
                    <a:pt x="222" y="13"/>
                  </a:lnTo>
                  <a:lnTo>
                    <a:pt x="213" y="16"/>
                  </a:lnTo>
                  <a:lnTo>
                    <a:pt x="205" y="20"/>
                  </a:lnTo>
                  <a:lnTo>
                    <a:pt x="194" y="24"/>
                  </a:lnTo>
                  <a:lnTo>
                    <a:pt x="184" y="29"/>
                  </a:lnTo>
                  <a:lnTo>
                    <a:pt x="172" y="31"/>
                  </a:lnTo>
                  <a:lnTo>
                    <a:pt x="163" y="33"/>
                  </a:lnTo>
                  <a:lnTo>
                    <a:pt x="153" y="31"/>
                  </a:lnTo>
                  <a:lnTo>
                    <a:pt x="143" y="26"/>
                  </a:lnTo>
                  <a:lnTo>
                    <a:pt x="133" y="18"/>
                  </a:lnTo>
                  <a:lnTo>
                    <a:pt x="123" y="6"/>
                  </a:lnTo>
                  <a:lnTo>
                    <a:pt x="121" y="5"/>
                  </a:lnTo>
                  <a:lnTo>
                    <a:pt x="120" y="3"/>
                  </a:lnTo>
                  <a:lnTo>
                    <a:pt x="112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5"/>
                  </a:lnTo>
                  <a:lnTo>
                    <a:pt x="69" y="8"/>
                  </a:lnTo>
                  <a:lnTo>
                    <a:pt x="61" y="11"/>
                  </a:lnTo>
                  <a:lnTo>
                    <a:pt x="53" y="15"/>
                  </a:lnTo>
                  <a:lnTo>
                    <a:pt x="41" y="20"/>
                  </a:lnTo>
                  <a:lnTo>
                    <a:pt x="31" y="24"/>
                  </a:lnTo>
                  <a:lnTo>
                    <a:pt x="20" y="28"/>
                  </a:lnTo>
                  <a:lnTo>
                    <a:pt x="8" y="29"/>
                  </a:lnTo>
                  <a:lnTo>
                    <a:pt x="5" y="31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4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30" y="41"/>
                  </a:lnTo>
                  <a:lnTo>
                    <a:pt x="36" y="39"/>
                  </a:lnTo>
                  <a:lnTo>
                    <a:pt x="43" y="38"/>
                  </a:lnTo>
                  <a:lnTo>
                    <a:pt x="48" y="34"/>
                  </a:lnTo>
                  <a:lnTo>
                    <a:pt x="54" y="33"/>
                  </a:lnTo>
                  <a:lnTo>
                    <a:pt x="61" y="29"/>
                  </a:lnTo>
                  <a:lnTo>
                    <a:pt x="67" y="26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8" y="41"/>
                  </a:lnTo>
                  <a:lnTo>
                    <a:pt x="151" y="47"/>
                  </a:lnTo>
                  <a:lnTo>
                    <a:pt x="163" y="47"/>
                  </a:lnTo>
                  <a:lnTo>
                    <a:pt x="176" y="47"/>
                  </a:lnTo>
                  <a:lnTo>
                    <a:pt x="187" y="44"/>
                  </a:lnTo>
                  <a:lnTo>
                    <a:pt x="200" y="39"/>
                  </a:lnTo>
                  <a:lnTo>
                    <a:pt x="212" y="34"/>
                  </a:lnTo>
                  <a:lnTo>
                    <a:pt x="218" y="31"/>
                  </a:lnTo>
                  <a:lnTo>
                    <a:pt x="225" y="28"/>
                  </a:lnTo>
                  <a:lnTo>
                    <a:pt x="233" y="24"/>
                  </a:lnTo>
                  <a:lnTo>
                    <a:pt x="240" y="23"/>
                  </a:lnTo>
                  <a:lnTo>
                    <a:pt x="248" y="21"/>
                  </a:lnTo>
                  <a:lnTo>
                    <a:pt x="254" y="20"/>
                  </a:lnTo>
                  <a:lnTo>
                    <a:pt x="263" y="20"/>
                  </a:lnTo>
                  <a:lnTo>
                    <a:pt x="271" y="21"/>
                  </a:lnTo>
                  <a:lnTo>
                    <a:pt x="273" y="21"/>
                  </a:lnTo>
                  <a:lnTo>
                    <a:pt x="274" y="23"/>
                  </a:lnTo>
                  <a:lnTo>
                    <a:pt x="277" y="26"/>
                  </a:lnTo>
                  <a:lnTo>
                    <a:pt x="284" y="31"/>
                  </a:lnTo>
                  <a:lnTo>
                    <a:pt x="291" y="36"/>
                  </a:lnTo>
                  <a:lnTo>
                    <a:pt x="299" y="41"/>
                  </a:lnTo>
                  <a:lnTo>
                    <a:pt x="309" y="47"/>
                  </a:lnTo>
                  <a:lnTo>
                    <a:pt x="320" y="56"/>
                  </a:lnTo>
                  <a:lnTo>
                    <a:pt x="330" y="61"/>
                  </a:lnTo>
                  <a:lnTo>
                    <a:pt x="340" y="64"/>
                  </a:lnTo>
                  <a:lnTo>
                    <a:pt x="350" y="64"/>
                  </a:lnTo>
                  <a:lnTo>
                    <a:pt x="358" y="62"/>
                  </a:lnTo>
                  <a:lnTo>
                    <a:pt x="366" y="61"/>
                  </a:lnTo>
                  <a:lnTo>
                    <a:pt x="374" y="56"/>
                  </a:lnTo>
                  <a:lnTo>
                    <a:pt x="381" y="52"/>
                  </a:lnTo>
                  <a:lnTo>
                    <a:pt x="389" y="47"/>
                  </a:lnTo>
                  <a:lnTo>
                    <a:pt x="401" y="41"/>
                  </a:lnTo>
                  <a:lnTo>
                    <a:pt x="414" y="36"/>
                  </a:lnTo>
                  <a:lnTo>
                    <a:pt x="425" y="33"/>
                  </a:lnTo>
                  <a:lnTo>
                    <a:pt x="437" y="34"/>
                  </a:lnTo>
                  <a:lnTo>
                    <a:pt x="445" y="44"/>
                  </a:lnTo>
                  <a:lnTo>
                    <a:pt x="451" y="52"/>
                  </a:lnTo>
                  <a:lnTo>
                    <a:pt x="460" y="59"/>
                  </a:lnTo>
                  <a:lnTo>
                    <a:pt x="468" y="66"/>
                  </a:lnTo>
                  <a:lnTo>
                    <a:pt x="476" y="70"/>
                  </a:lnTo>
                  <a:lnTo>
                    <a:pt x="484" y="75"/>
                  </a:lnTo>
                  <a:lnTo>
                    <a:pt x="493" y="79"/>
                  </a:lnTo>
                  <a:lnTo>
                    <a:pt x="501" y="80"/>
                  </a:lnTo>
                  <a:lnTo>
                    <a:pt x="512" y="80"/>
                  </a:lnTo>
                  <a:lnTo>
                    <a:pt x="524" y="80"/>
                  </a:lnTo>
                  <a:lnTo>
                    <a:pt x="535" y="77"/>
                  </a:lnTo>
                  <a:lnTo>
                    <a:pt x="545" y="72"/>
                  </a:lnTo>
                  <a:lnTo>
                    <a:pt x="555" y="67"/>
                  </a:lnTo>
                  <a:lnTo>
                    <a:pt x="561" y="62"/>
                  </a:lnTo>
                  <a:lnTo>
                    <a:pt x="570" y="57"/>
                  </a:lnTo>
                  <a:lnTo>
                    <a:pt x="575" y="52"/>
                  </a:lnTo>
                  <a:lnTo>
                    <a:pt x="576" y="51"/>
                  </a:lnTo>
                  <a:lnTo>
                    <a:pt x="580" y="49"/>
                  </a:lnTo>
                  <a:lnTo>
                    <a:pt x="581" y="49"/>
                  </a:lnTo>
                  <a:lnTo>
                    <a:pt x="581" y="47"/>
                  </a:lnTo>
                  <a:lnTo>
                    <a:pt x="584" y="46"/>
                  </a:lnTo>
                  <a:lnTo>
                    <a:pt x="586" y="43"/>
                  </a:lnTo>
                  <a:lnTo>
                    <a:pt x="586" y="39"/>
                  </a:lnTo>
                  <a:lnTo>
                    <a:pt x="58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46"/>
            <p:cNvSpPr/>
            <p:nvPr/>
          </p:nvSpPr>
          <p:spPr>
            <a:xfrm>
              <a:off x="6600960" y="5261040"/>
              <a:ext cx="463320" cy="586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85" h="73">
                  <a:moveTo>
                    <a:pt x="585" y="29"/>
                  </a:moveTo>
                  <a:lnTo>
                    <a:pt x="581" y="26"/>
                  </a:lnTo>
                  <a:lnTo>
                    <a:pt x="580" y="24"/>
                  </a:lnTo>
                  <a:lnTo>
                    <a:pt x="576" y="24"/>
                  </a:lnTo>
                  <a:lnTo>
                    <a:pt x="573" y="26"/>
                  </a:lnTo>
                  <a:lnTo>
                    <a:pt x="571" y="27"/>
                  </a:lnTo>
                  <a:lnTo>
                    <a:pt x="570" y="29"/>
                  </a:lnTo>
                  <a:lnTo>
                    <a:pt x="567" y="31"/>
                  </a:lnTo>
                  <a:lnTo>
                    <a:pt x="565" y="32"/>
                  </a:lnTo>
                  <a:lnTo>
                    <a:pt x="560" y="36"/>
                  </a:lnTo>
                  <a:lnTo>
                    <a:pt x="553" y="41"/>
                  </a:lnTo>
                  <a:lnTo>
                    <a:pt x="547" y="45"/>
                  </a:lnTo>
                  <a:lnTo>
                    <a:pt x="539" y="49"/>
                  </a:lnTo>
                  <a:lnTo>
                    <a:pt x="530" y="54"/>
                  </a:lnTo>
                  <a:lnTo>
                    <a:pt x="522" y="55"/>
                  </a:lnTo>
                  <a:lnTo>
                    <a:pt x="512" y="57"/>
                  </a:lnTo>
                  <a:lnTo>
                    <a:pt x="502" y="57"/>
                  </a:lnTo>
                  <a:lnTo>
                    <a:pt x="496" y="55"/>
                  </a:lnTo>
                  <a:lnTo>
                    <a:pt x="488" y="54"/>
                  </a:lnTo>
                  <a:lnTo>
                    <a:pt x="481" y="50"/>
                  </a:lnTo>
                  <a:lnTo>
                    <a:pt x="475" y="45"/>
                  </a:lnTo>
                  <a:lnTo>
                    <a:pt x="466" y="41"/>
                  </a:lnTo>
                  <a:lnTo>
                    <a:pt x="460" y="34"/>
                  </a:lnTo>
                  <a:lnTo>
                    <a:pt x="453" y="26"/>
                  </a:lnTo>
                  <a:lnTo>
                    <a:pt x="447" y="18"/>
                  </a:lnTo>
                  <a:lnTo>
                    <a:pt x="447" y="16"/>
                  </a:lnTo>
                  <a:lnTo>
                    <a:pt x="443" y="16"/>
                  </a:lnTo>
                  <a:lnTo>
                    <a:pt x="434" y="13"/>
                  </a:lnTo>
                  <a:lnTo>
                    <a:pt x="425" y="13"/>
                  </a:lnTo>
                  <a:lnTo>
                    <a:pt x="417" y="13"/>
                  </a:lnTo>
                  <a:lnTo>
                    <a:pt x="409" y="14"/>
                  </a:lnTo>
                  <a:lnTo>
                    <a:pt x="401" y="18"/>
                  </a:lnTo>
                  <a:lnTo>
                    <a:pt x="394" y="21"/>
                  </a:lnTo>
                  <a:lnTo>
                    <a:pt x="388" y="24"/>
                  </a:lnTo>
                  <a:lnTo>
                    <a:pt x="381" y="29"/>
                  </a:lnTo>
                  <a:lnTo>
                    <a:pt x="373" y="34"/>
                  </a:lnTo>
                  <a:lnTo>
                    <a:pt x="366" y="37"/>
                  </a:lnTo>
                  <a:lnTo>
                    <a:pt x="360" y="41"/>
                  </a:lnTo>
                  <a:lnTo>
                    <a:pt x="353" y="44"/>
                  </a:lnTo>
                  <a:lnTo>
                    <a:pt x="347" y="44"/>
                  </a:lnTo>
                  <a:lnTo>
                    <a:pt x="340" y="44"/>
                  </a:lnTo>
                  <a:lnTo>
                    <a:pt x="333" y="42"/>
                  </a:lnTo>
                  <a:lnTo>
                    <a:pt x="327" y="39"/>
                  </a:lnTo>
                  <a:lnTo>
                    <a:pt x="274" y="3"/>
                  </a:lnTo>
                  <a:lnTo>
                    <a:pt x="264" y="1"/>
                  </a:lnTo>
                  <a:lnTo>
                    <a:pt x="255" y="1"/>
                  </a:lnTo>
                  <a:lnTo>
                    <a:pt x="246" y="3"/>
                  </a:lnTo>
                  <a:lnTo>
                    <a:pt x="236" y="4"/>
                  </a:lnTo>
                  <a:lnTo>
                    <a:pt x="228" y="8"/>
                  </a:lnTo>
                  <a:lnTo>
                    <a:pt x="220" y="11"/>
                  </a:lnTo>
                  <a:lnTo>
                    <a:pt x="212" y="14"/>
                  </a:lnTo>
                  <a:lnTo>
                    <a:pt x="204" y="18"/>
                  </a:lnTo>
                  <a:lnTo>
                    <a:pt x="192" y="23"/>
                  </a:lnTo>
                  <a:lnTo>
                    <a:pt x="182" y="27"/>
                  </a:lnTo>
                  <a:lnTo>
                    <a:pt x="171" y="31"/>
                  </a:lnTo>
                  <a:lnTo>
                    <a:pt x="161" y="31"/>
                  </a:lnTo>
                  <a:lnTo>
                    <a:pt x="151" y="31"/>
                  </a:lnTo>
                  <a:lnTo>
                    <a:pt x="141" y="26"/>
                  </a:lnTo>
                  <a:lnTo>
                    <a:pt x="131" y="18"/>
                  </a:lnTo>
                  <a:lnTo>
                    <a:pt x="122" y="6"/>
                  </a:lnTo>
                  <a:lnTo>
                    <a:pt x="120" y="4"/>
                  </a:lnTo>
                  <a:lnTo>
                    <a:pt x="118" y="3"/>
                  </a:lnTo>
                  <a:lnTo>
                    <a:pt x="110" y="1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6" y="4"/>
                  </a:lnTo>
                  <a:lnTo>
                    <a:pt x="67" y="8"/>
                  </a:lnTo>
                  <a:lnTo>
                    <a:pt x="59" y="11"/>
                  </a:lnTo>
                  <a:lnTo>
                    <a:pt x="51" y="16"/>
                  </a:lnTo>
                  <a:lnTo>
                    <a:pt x="41" y="21"/>
                  </a:lnTo>
                  <a:lnTo>
                    <a:pt x="30" y="26"/>
                  </a:lnTo>
                  <a:lnTo>
                    <a:pt x="18" y="31"/>
                  </a:lnTo>
                  <a:lnTo>
                    <a:pt x="7" y="32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47"/>
                  </a:lnTo>
                  <a:lnTo>
                    <a:pt x="5" y="49"/>
                  </a:lnTo>
                  <a:lnTo>
                    <a:pt x="8" y="49"/>
                  </a:lnTo>
                  <a:lnTo>
                    <a:pt x="15" y="47"/>
                  </a:lnTo>
                  <a:lnTo>
                    <a:pt x="21" y="45"/>
                  </a:lnTo>
                  <a:lnTo>
                    <a:pt x="28" y="44"/>
                  </a:lnTo>
                  <a:lnTo>
                    <a:pt x="35" y="42"/>
                  </a:lnTo>
                  <a:lnTo>
                    <a:pt x="41" y="39"/>
                  </a:lnTo>
                  <a:lnTo>
                    <a:pt x="46" y="37"/>
                  </a:lnTo>
                  <a:lnTo>
                    <a:pt x="53" y="34"/>
                  </a:lnTo>
                  <a:lnTo>
                    <a:pt x="59" y="31"/>
                  </a:lnTo>
                  <a:lnTo>
                    <a:pt x="66" y="27"/>
                  </a:lnTo>
                  <a:lnTo>
                    <a:pt x="74" y="24"/>
                  </a:lnTo>
                  <a:lnTo>
                    <a:pt x="81" y="21"/>
                  </a:lnTo>
                  <a:lnTo>
                    <a:pt x="87" y="19"/>
                  </a:lnTo>
                  <a:lnTo>
                    <a:pt x="92" y="18"/>
                  </a:lnTo>
                  <a:lnTo>
                    <a:pt x="99" y="16"/>
                  </a:lnTo>
                  <a:lnTo>
                    <a:pt x="105" y="16"/>
                  </a:lnTo>
                  <a:lnTo>
                    <a:pt x="110" y="18"/>
                  </a:lnTo>
                  <a:lnTo>
                    <a:pt x="123" y="32"/>
                  </a:lnTo>
                  <a:lnTo>
                    <a:pt x="136" y="41"/>
                  </a:lnTo>
                  <a:lnTo>
                    <a:pt x="149" y="47"/>
                  </a:lnTo>
                  <a:lnTo>
                    <a:pt x="163" y="47"/>
                  </a:lnTo>
                  <a:lnTo>
                    <a:pt x="176" y="45"/>
                  </a:lnTo>
                  <a:lnTo>
                    <a:pt x="187" y="42"/>
                  </a:lnTo>
                  <a:lnTo>
                    <a:pt x="199" y="37"/>
                  </a:lnTo>
                  <a:lnTo>
                    <a:pt x="210" y="32"/>
                  </a:lnTo>
                  <a:lnTo>
                    <a:pt x="217" y="29"/>
                  </a:lnTo>
                  <a:lnTo>
                    <a:pt x="225" y="26"/>
                  </a:lnTo>
                  <a:lnTo>
                    <a:pt x="232" y="23"/>
                  </a:lnTo>
                  <a:lnTo>
                    <a:pt x="240" y="21"/>
                  </a:lnTo>
                  <a:lnTo>
                    <a:pt x="246" y="19"/>
                  </a:lnTo>
                  <a:lnTo>
                    <a:pt x="255" y="18"/>
                  </a:lnTo>
                  <a:lnTo>
                    <a:pt x="261" y="18"/>
                  </a:lnTo>
                  <a:lnTo>
                    <a:pt x="269" y="19"/>
                  </a:lnTo>
                  <a:lnTo>
                    <a:pt x="271" y="19"/>
                  </a:lnTo>
                  <a:lnTo>
                    <a:pt x="273" y="21"/>
                  </a:lnTo>
                  <a:lnTo>
                    <a:pt x="276" y="24"/>
                  </a:lnTo>
                  <a:lnTo>
                    <a:pt x="282" y="27"/>
                  </a:lnTo>
                  <a:lnTo>
                    <a:pt x="289" y="32"/>
                  </a:lnTo>
                  <a:lnTo>
                    <a:pt x="297" y="39"/>
                  </a:lnTo>
                  <a:lnTo>
                    <a:pt x="307" y="45"/>
                  </a:lnTo>
                  <a:lnTo>
                    <a:pt x="319" y="52"/>
                  </a:lnTo>
                  <a:lnTo>
                    <a:pt x="330" y="57"/>
                  </a:lnTo>
                  <a:lnTo>
                    <a:pt x="340" y="60"/>
                  </a:lnTo>
                  <a:lnTo>
                    <a:pt x="348" y="60"/>
                  </a:lnTo>
                  <a:lnTo>
                    <a:pt x="358" y="59"/>
                  </a:lnTo>
                  <a:lnTo>
                    <a:pt x="366" y="57"/>
                  </a:lnTo>
                  <a:lnTo>
                    <a:pt x="374" y="52"/>
                  </a:lnTo>
                  <a:lnTo>
                    <a:pt x="381" y="49"/>
                  </a:lnTo>
                  <a:lnTo>
                    <a:pt x="389" y="44"/>
                  </a:lnTo>
                  <a:lnTo>
                    <a:pt x="401" y="36"/>
                  </a:lnTo>
                  <a:lnTo>
                    <a:pt x="412" y="31"/>
                  </a:lnTo>
                  <a:lnTo>
                    <a:pt x="424" y="27"/>
                  </a:lnTo>
                  <a:lnTo>
                    <a:pt x="437" y="29"/>
                  </a:lnTo>
                  <a:lnTo>
                    <a:pt x="445" y="39"/>
                  </a:lnTo>
                  <a:lnTo>
                    <a:pt x="452" y="47"/>
                  </a:lnTo>
                  <a:lnTo>
                    <a:pt x="460" y="54"/>
                  </a:lnTo>
                  <a:lnTo>
                    <a:pt x="468" y="60"/>
                  </a:lnTo>
                  <a:lnTo>
                    <a:pt x="476" y="65"/>
                  </a:lnTo>
                  <a:lnTo>
                    <a:pt x="484" y="68"/>
                  </a:lnTo>
                  <a:lnTo>
                    <a:pt x="493" y="72"/>
                  </a:lnTo>
                  <a:lnTo>
                    <a:pt x="501" y="73"/>
                  </a:lnTo>
                  <a:lnTo>
                    <a:pt x="512" y="73"/>
                  </a:lnTo>
                  <a:lnTo>
                    <a:pt x="524" y="72"/>
                  </a:lnTo>
                  <a:lnTo>
                    <a:pt x="535" y="68"/>
                  </a:lnTo>
                  <a:lnTo>
                    <a:pt x="545" y="64"/>
                  </a:lnTo>
                  <a:lnTo>
                    <a:pt x="553" y="60"/>
                  </a:lnTo>
                  <a:lnTo>
                    <a:pt x="562" y="54"/>
                  </a:lnTo>
                  <a:lnTo>
                    <a:pt x="568" y="50"/>
                  </a:lnTo>
                  <a:lnTo>
                    <a:pt x="575" y="45"/>
                  </a:lnTo>
                  <a:lnTo>
                    <a:pt x="576" y="44"/>
                  </a:lnTo>
                  <a:lnTo>
                    <a:pt x="578" y="42"/>
                  </a:lnTo>
                  <a:lnTo>
                    <a:pt x="580" y="41"/>
                  </a:lnTo>
                  <a:lnTo>
                    <a:pt x="581" y="39"/>
                  </a:lnTo>
                  <a:lnTo>
                    <a:pt x="583" y="37"/>
                  </a:lnTo>
                  <a:lnTo>
                    <a:pt x="585" y="34"/>
                  </a:lnTo>
                  <a:lnTo>
                    <a:pt x="585" y="32"/>
                  </a:lnTo>
                  <a:lnTo>
                    <a:pt x="58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47"/>
            <p:cNvSpPr/>
            <p:nvPr/>
          </p:nvSpPr>
          <p:spPr>
            <a:xfrm>
              <a:off x="7785000" y="495468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6" h="265">
                  <a:moveTo>
                    <a:pt x="315" y="4"/>
                  </a:moveTo>
                  <a:lnTo>
                    <a:pt x="311" y="0"/>
                  </a:lnTo>
                  <a:lnTo>
                    <a:pt x="307" y="0"/>
                  </a:lnTo>
                  <a:lnTo>
                    <a:pt x="302" y="0"/>
                  </a:lnTo>
                  <a:lnTo>
                    <a:pt x="298" y="4"/>
                  </a:lnTo>
                  <a:lnTo>
                    <a:pt x="50" y="227"/>
                  </a:lnTo>
                  <a:lnTo>
                    <a:pt x="23" y="157"/>
                  </a:lnTo>
                  <a:lnTo>
                    <a:pt x="19" y="152"/>
                  </a:lnTo>
                  <a:lnTo>
                    <a:pt x="16" y="150"/>
                  </a:lnTo>
                  <a:lnTo>
                    <a:pt x="11" y="148"/>
                  </a:lnTo>
                  <a:lnTo>
                    <a:pt x="6" y="150"/>
                  </a:lnTo>
                  <a:lnTo>
                    <a:pt x="3" y="152"/>
                  </a:lnTo>
                  <a:lnTo>
                    <a:pt x="1" y="155"/>
                  </a:lnTo>
                  <a:lnTo>
                    <a:pt x="0" y="160"/>
                  </a:lnTo>
                  <a:lnTo>
                    <a:pt x="1" y="165"/>
                  </a:lnTo>
                  <a:lnTo>
                    <a:pt x="41" y="265"/>
                  </a:lnTo>
                  <a:lnTo>
                    <a:pt x="313" y="20"/>
                  </a:lnTo>
                  <a:lnTo>
                    <a:pt x="316" y="17"/>
                  </a:lnTo>
                  <a:lnTo>
                    <a:pt x="316" y="12"/>
                  </a:lnTo>
                  <a:lnTo>
                    <a:pt x="316" y="9"/>
                  </a:lnTo>
                  <a:lnTo>
                    <a:pt x="3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48"/>
            <p:cNvSpPr/>
            <p:nvPr/>
          </p:nvSpPr>
          <p:spPr>
            <a:xfrm>
              <a:off x="8085240" y="458316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9" h="265">
                  <a:moveTo>
                    <a:pt x="317" y="4"/>
                  </a:moveTo>
                  <a:lnTo>
                    <a:pt x="314" y="0"/>
                  </a:lnTo>
                  <a:lnTo>
                    <a:pt x="309" y="0"/>
                  </a:lnTo>
                  <a:lnTo>
                    <a:pt x="304" y="0"/>
                  </a:lnTo>
                  <a:lnTo>
                    <a:pt x="301" y="4"/>
                  </a:lnTo>
                  <a:lnTo>
                    <a:pt x="49" y="225"/>
                  </a:lnTo>
                  <a:lnTo>
                    <a:pt x="21" y="156"/>
                  </a:lnTo>
                  <a:lnTo>
                    <a:pt x="20" y="151"/>
                  </a:lnTo>
                  <a:lnTo>
                    <a:pt x="17" y="150"/>
                  </a:lnTo>
                  <a:lnTo>
                    <a:pt x="12" y="148"/>
                  </a:lnTo>
                  <a:lnTo>
                    <a:pt x="7" y="150"/>
                  </a:lnTo>
                  <a:lnTo>
                    <a:pt x="3" y="151"/>
                  </a:lnTo>
                  <a:lnTo>
                    <a:pt x="2" y="155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41" y="265"/>
                  </a:lnTo>
                  <a:lnTo>
                    <a:pt x="315" y="20"/>
                  </a:lnTo>
                  <a:lnTo>
                    <a:pt x="319" y="17"/>
                  </a:lnTo>
                  <a:lnTo>
                    <a:pt x="319" y="12"/>
                  </a:lnTo>
                  <a:lnTo>
                    <a:pt x="319" y="7"/>
                  </a:lnTo>
                  <a:lnTo>
                    <a:pt x="3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49"/>
            <p:cNvSpPr/>
            <p:nvPr/>
          </p:nvSpPr>
          <p:spPr>
            <a:xfrm>
              <a:off x="7254720" y="4381560"/>
              <a:ext cx="1432080" cy="1309680"/>
            </a:xfrm>
            <a:custGeom>
              <a:avLst/>
              <a:gdLst>
                <a:gd name="textAreaLeft" fmla="*/ 0 w 1432080"/>
                <a:gd name="textAreaRight" fmla="*/ 1432440 w 1432080"/>
                <a:gd name="textAreaTop" fmla="*/ 0 h 1309680"/>
                <a:gd name="textAreaBottom" fmla="*/ 1310040 h 1309680"/>
              </a:gdLst>
              <a:ahLst/>
              <a:rect l="textAreaLeft" t="textAreaTop" r="textAreaRight" b="textAreaBottom"/>
              <a:pathLst>
                <a:path w="1805" h="1650">
                  <a:moveTo>
                    <a:pt x="1737" y="97"/>
                  </a:moveTo>
                  <a:lnTo>
                    <a:pt x="1086" y="1623"/>
                  </a:lnTo>
                  <a:lnTo>
                    <a:pt x="30" y="1324"/>
                  </a:lnTo>
                  <a:lnTo>
                    <a:pt x="445" y="225"/>
                  </a:lnTo>
                  <a:lnTo>
                    <a:pt x="1767" y="30"/>
                  </a:lnTo>
                  <a:lnTo>
                    <a:pt x="1737" y="97"/>
                  </a:lnTo>
                  <a:lnTo>
                    <a:pt x="1764" y="97"/>
                  </a:lnTo>
                  <a:lnTo>
                    <a:pt x="1805" y="0"/>
                  </a:lnTo>
                  <a:lnTo>
                    <a:pt x="429" y="206"/>
                  </a:lnTo>
                  <a:lnTo>
                    <a:pt x="0" y="1341"/>
                  </a:lnTo>
                  <a:lnTo>
                    <a:pt x="1099" y="1650"/>
                  </a:lnTo>
                  <a:lnTo>
                    <a:pt x="1764" y="97"/>
                  </a:lnTo>
                  <a:lnTo>
                    <a:pt x="1737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50"/>
            <p:cNvSpPr/>
            <p:nvPr/>
          </p:nvSpPr>
          <p:spPr>
            <a:xfrm>
              <a:off x="6343560" y="4430520"/>
              <a:ext cx="1214640" cy="1027080"/>
            </a:xfrm>
            <a:custGeom>
              <a:avLst/>
              <a:gdLst>
                <a:gd name="textAreaLeft" fmla="*/ 0 w 1214640"/>
                <a:gd name="textAreaRight" fmla="*/ 1215000 w 121464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530" h="1293">
                  <a:moveTo>
                    <a:pt x="607" y="0"/>
                  </a:moveTo>
                  <a:lnTo>
                    <a:pt x="305" y="644"/>
                  </a:lnTo>
                  <a:lnTo>
                    <a:pt x="330" y="644"/>
                  </a:lnTo>
                  <a:lnTo>
                    <a:pt x="622" y="24"/>
                  </a:lnTo>
                  <a:lnTo>
                    <a:pt x="1499" y="151"/>
                  </a:lnTo>
                  <a:lnTo>
                    <a:pt x="1073" y="1237"/>
                  </a:lnTo>
                  <a:lnTo>
                    <a:pt x="37" y="1268"/>
                  </a:lnTo>
                  <a:lnTo>
                    <a:pt x="330" y="644"/>
                  </a:lnTo>
                  <a:lnTo>
                    <a:pt x="305" y="644"/>
                  </a:lnTo>
                  <a:lnTo>
                    <a:pt x="0" y="1293"/>
                  </a:lnTo>
                  <a:lnTo>
                    <a:pt x="1088" y="1260"/>
                  </a:lnTo>
                  <a:lnTo>
                    <a:pt x="1530" y="133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7" name="Slide Number Placeholder 4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29DF-F38D-4BDB-AF15-CB1EFBF261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Footer Placeholder 4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23888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ет запасных ча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652464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 о запасных част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учета налич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оимость и информацию для зака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1" name="Picture 4" descr="cog_box"/>
          <p:cNvPicPr/>
          <p:nvPr/>
        </p:nvPicPr>
        <p:blipFill>
          <a:blip r:embed="rId1"/>
          <a:stretch/>
        </p:blipFill>
        <p:spPr>
          <a:xfrm>
            <a:off x="6972480" y="1066680"/>
            <a:ext cx="2095200" cy="2476800"/>
          </a:xfrm>
          <a:prstGeom prst="rect">
            <a:avLst/>
          </a:prstGeom>
          <a:ln w="0">
            <a:noFill/>
          </a:ln>
        </p:spPr>
      </p:pic>
      <p:sp>
        <p:nvSpPr>
          <p:cNvPr id="3402" name="Form"/>
          <p:cNvSpPr/>
          <p:nvPr/>
        </p:nvSpPr>
        <p:spPr>
          <a:xfrm>
            <a:off x="6829560" y="3048120"/>
            <a:ext cx="1371600" cy="1676160"/>
          </a:xfrm>
          <a:custGeom>
            <a:avLst/>
            <a:gdLst>
              <a:gd name="textAreaLeft" fmla="*/ 300960 w 1371600"/>
              <a:gd name="textAreaRight" fmla="*/ 1232640 w 1371600"/>
              <a:gd name="textAreaTop" fmla="*/ 101520 h 1676160"/>
              <a:gd name="textAreaBottom" fmla="*/ 1267200 h 16761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3" name="Picture 6" descr="catalog"/>
          <p:cNvPicPr/>
          <p:nvPr/>
        </p:nvPicPr>
        <p:blipFill>
          <a:blip r:embed="rId2"/>
          <a:stretch/>
        </p:blipFill>
        <p:spPr>
          <a:xfrm>
            <a:off x="60292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404" name="Picture 7" descr="catalog_2"/>
          <p:cNvPicPr/>
          <p:nvPr/>
        </p:nvPicPr>
        <p:blipFill>
          <a:blip r:embed="rId3"/>
          <a:stretch/>
        </p:blipFill>
        <p:spPr>
          <a:xfrm>
            <a:off x="5257800" y="48769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3405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F262-F1A9-481E-A59E-E614551CC1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7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523880"/>
            <a:ext cx="8229600" cy="5164200"/>
          </a:xfrm>
          <a:prstGeom prst="rect">
            <a:avLst/>
          </a:prstGeom>
          <a:ln w="0">
            <a:noFill/>
          </a:ln>
        </p:spPr>
      </p:pic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иск и устранение неисправност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 чем проблем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533160" y="2063520"/>
            <a:ext cx="472428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Проб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Реагент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од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электричеств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Оборудование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0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523880"/>
            <a:ext cx="2252520" cy="4953240"/>
          </a:xfrm>
          <a:prstGeom prst="rect">
            <a:avLst/>
          </a:prstGeom>
          <a:ln w="0">
            <a:noFill/>
          </a:ln>
        </p:spPr>
      </p:pic>
      <p:sp>
        <p:nvSpPr>
          <p:cNvPr id="3411" name="WordArt 6"/>
          <p:cNvSpPr txBox="1"/>
          <p:nvPr/>
        </p:nvSpPr>
        <p:spPr>
          <a:xfrm>
            <a:off x="5029200" y="430524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нструк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12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01CF-2FF9-400B-88E5-71668BFA46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Если собственные усилия не увенчались успехом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15" name="Picture 3" descr="j0285410"/>
          <p:cNvPicPr/>
          <p:nvPr/>
        </p:nvPicPr>
        <p:blipFill>
          <a:blip r:embed="rId1"/>
          <a:stretch/>
        </p:blipFill>
        <p:spPr>
          <a:xfrm>
            <a:off x="6705720" y="809640"/>
            <a:ext cx="1904760" cy="1812960"/>
          </a:xfrm>
          <a:prstGeom prst="rect">
            <a:avLst/>
          </a:prstGeom>
          <a:ln w="0">
            <a:noFill/>
          </a:ln>
        </p:spPr>
      </p:pic>
      <p:sp>
        <p:nvSpPr>
          <p:cNvPr id="3416" name="Rectangle 4"/>
          <p:cNvSpPr/>
          <p:nvPr/>
        </p:nvSpPr>
        <p:spPr>
          <a:xfrm>
            <a:off x="457200" y="1371600"/>
            <a:ext cx="822960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вони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ителю или  техническому специали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щите возможность продолжить   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учите запасной аппарат из центрального склада или от производ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ередайте пробы в ближайшую лаборато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7" name="Picture 5" descr="5720_lores"/>
          <p:cNvPicPr/>
          <p:nvPr/>
        </p:nvPicPr>
        <p:blipFill>
          <a:blip r:embed="rId2"/>
          <a:srcRect l="0" t="5031" r="0" b="15077"/>
          <a:stretch/>
        </p:blipFill>
        <p:spPr>
          <a:xfrm>
            <a:off x="16002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18" name="Picture 6" descr="5721_lores"/>
          <p:cNvPicPr/>
          <p:nvPr/>
        </p:nvPicPr>
        <p:blipFill>
          <a:blip r:embed="rId3"/>
          <a:stretch/>
        </p:blipFill>
        <p:spPr>
          <a:xfrm>
            <a:off x="54100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19" name="Line 7"/>
          <p:cNvSpPr/>
          <p:nvPr/>
        </p:nvSpPr>
        <p:spPr>
          <a:xfrm>
            <a:off x="3276720" y="601992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0" name="Picture 8" descr="j0388758"/>
          <p:cNvPicPr/>
          <p:nvPr/>
        </p:nvPicPr>
        <p:blipFill>
          <a:blip r:embed="rId4"/>
          <a:stretch/>
        </p:blipFill>
        <p:spPr>
          <a:xfrm>
            <a:off x="35053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342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85D7-F527-4C71-B078-DB3B56215C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/>
          </p:nvPr>
        </p:nvSpPr>
        <p:spPr>
          <a:xfrm>
            <a:off x="152280" y="446040"/>
            <a:ext cx="883944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Е используйте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которое не работает должным образ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4" name="Text Box 3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5" name="Picture 4" descr="equipment_big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426" name="Text Box 5"/>
          <p:cNvSpPr/>
          <p:nvPr/>
        </p:nvSpPr>
        <p:spPr>
          <a:xfrm>
            <a:off x="2812680" y="2822400"/>
            <a:ext cx="3655440" cy="24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РАБО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: 31.5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C671-CC33-4E87-B207-A2AF6A2DD5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ервисное обслуживание и ремон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рма-производите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ия должна составить календарный план регулярного обслуживания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 гарантии могут требовать, чтобы ремонт выполнялся только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штатная служба      технического         обслу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1" name="Picture 4" descr="lab_folder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257800" y="398160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343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DE4B-4572-4571-BA14-43465784A3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4" name="Picture 5" descr="Lab Junk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43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2AEC-67BF-486F-8B90-1CAAB41830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Rectangle 6"/>
          <p:cNvSpPr/>
          <p:nvPr/>
        </p:nvSpPr>
        <p:spPr>
          <a:xfrm>
            <a:off x="228600" y="45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380880" y="477360"/>
            <a:ext cx="83822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Text Box 5"/>
          <p:cNvSpPr/>
          <p:nvPr/>
        </p:nvSpPr>
        <p:spPr>
          <a:xfrm>
            <a:off x="304920" y="118728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роведении анализов ИФА вышел из строя фотометр. В лаборатории отсутствует протокол по поиску и устранению неисправностей, журнал по обслуживанию не открывали последние 2 года, и не могут найти инструкцию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надо дел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Почему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должно было быть сделано ра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ши действия, если бы это произошло в вашей лаборатор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B153-C984-4B00-BA6B-4207FE400F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52388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40" name="Picture 4" descr=""/>
          <p:cNvPicPr/>
          <p:nvPr/>
        </p:nvPicPr>
        <p:blipFill>
          <a:blip r:embed="rId2"/>
          <a:stretch/>
        </p:blipFill>
        <p:spPr>
          <a:xfrm>
            <a:off x="838080" y="4424400"/>
            <a:ext cx="7543800" cy="1752480"/>
          </a:xfrm>
          <a:prstGeom prst="rect">
            <a:avLst/>
          </a:prstGeom>
          <a:ln w="0">
            <a:noFill/>
          </a:ln>
        </p:spPr>
      </p:pic>
      <p:pic>
        <p:nvPicPr>
          <p:cNvPr id="3441" name="Picture 5" descr=""/>
          <p:cNvPicPr/>
          <p:nvPr/>
        </p:nvPicPr>
        <p:blipFill>
          <a:blip r:embed="rId3"/>
          <a:stretch/>
        </p:blipFill>
        <p:spPr>
          <a:xfrm>
            <a:off x="4191120" y="1528920"/>
            <a:ext cx="4190760" cy="2889000"/>
          </a:xfrm>
          <a:prstGeom prst="rect">
            <a:avLst/>
          </a:prstGeom>
          <a:ln w="0">
            <a:noFill/>
          </a:ln>
        </p:spPr>
      </p:pic>
      <p:sp>
        <p:nvSpPr>
          <p:cNvPr id="3442" name="AutoShape 6"/>
          <p:cNvSpPr/>
          <p:nvPr/>
        </p:nvSpPr>
        <p:spPr>
          <a:xfrm>
            <a:off x="4419720" y="3357720"/>
            <a:ext cx="2357280" cy="914400"/>
          </a:xfrm>
          <a:custGeom>
            <a:avLst/>
            <a:gdLst>
              <a:gd name="textAreaLeft" fmla="*/ 589320 w 2357280"/>
              <a:gd name="textAreaRight" fmla="*/ 1767960 w 235728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AutoShape 7"/>
          <p:cNvSpPr/>
          <p:nvPr/>
        </p:nvSpPr>
        <p:spPr>
          <a:xfrm>
            <a:off x="5181480" y="3433680"/>
            <a:ext cx="914400" cy="762120"/>
          </a:xfrm>
          <a:custGeom>
            <a:avLst/>
            <a:gdLst>
              <a:gd name="textAreaLeft" fmla="*/ 208800 w 914400"/>
              <a:gd name="textAreaRight" fmla="*/ 705600 w 91440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8"/>
          <p:cNvSpPr txBox="1"/>
          <p:nvPr/>
        </p:nvSpPr>
        <p:spPr>
          <a:xfrm>
            <a:off x="1905120" y="290052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5" name="WordArt 9"/>
          <p:cNvSpPr txBox="1"/>
          <p:nvPr/>
        </p:nvSpPr>
        <p:spPr>
          <a:xfrm>
            <a:off x="7010280" y="472932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446" name="Picture 10" descr="FIL20003"/>
          <p:cNvPicPr/>
          <p:nvPr/>
        </p:nvPicPr>
        <p:blipFill>
          <a:blip r:embed="rId4"/>
          <a:stretch/>
        </p:blipFill>
        <p:spPr>
          <a:xfrm>
            <a:off x="5410080" y="35863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3447" name="Picture 11" descr="FIL15004"/>
          <p:cNvPicPr/>
          <p:nvPr/>
        </p:nvPicPr>
        <p:blipFill>
          <a:blip r:embed="rId5"/>
          <a:stretch/>
        </p:blipFill>
        <p:spPr>
          <a:xfrm>
            <a:off x="4419720" y="1528920"/>
            <a:ext cx="2104920" cy="1885680"/>
          </a:xfrm>
          <a:prstGeom prst="rect">
            <a:avLst/>
          </a:prstGeom>
          <a:ln w="0">
            <a:noFill/>
          </a:ln>
        </p:spPr>
      </p:pic>
      <p:sp>
        <p:nvSpPr>
          <p:cNvPr id="3448" name="Text Box 12"/>
          <p:cNvSpPr/>
          <p:nvPr/>
        </p:nvSpPr>
        <p:spPr>
          <a:xfrm>
            <a:off x="5257800" y="1757520"/>
            <a:ext cx="990720" cy="36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97CE-4AEE-49D6-8E79-EDA0CA33E4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Footer Placeholder 13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6960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 письменном виде процедуры д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3" name="Picture 4" descr="calendar-3"/>
          <p:cNvPicPr/>
          <p:nvPr/>
        </p:nvPicPr>
        <p:blipFill>
          <a:blip r:embed="rId1"/>
          <a:stretch/>
        </p:blipFill>
        <p:spPr>
          <a:xfrm>
            <a:off x="6629400" y="1676520"/>
            <a:ext cx="2095560" cy="2333520"/>
          </a:xfrm>
          <a:prstGeom prst="rect">
            <a:avLst/>
          </a:prstGeom>
          <a:ln w="0">
            <a:noFill/>
          </a:ln>
        </p:spPr>
      </p:pic>
      <p:sp>
        <p:nvSpPr>
          <p:cNvPr id="3454" name="Text Box 5"/>
          <p:cNvSpPr/>
          <p:nvPr/>
        </p:nvSpPr>
        <p:spPr>
          <a:xfrm>
            <a:off x="7238880" y="274320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Documents"/>
          <p:cNvSpPr/>
          <p:nvPr/>
        </p:nvSpPr>
        <p:spPr>
          <a:xfrm rot="16200000">
            <a:off x="876240" y="1486080"/>
            <a:ext cx="4191120" cy="5333760"/>
          </a:xfrm>
          <a:custGeom>
            <a:avLst/>
            <a:gdLst>
              <a:gd name="textAreaLeft" fmla="*/ 318960 w 4191120"/>
              <a:gd name="textAreaRight" fmla="*/ 3205800 w 4191120"/>
              <a:gd name="textAreaTop" fmla="*/ 1029960 h 5333760"/>
              <a:gd name="textAreaBottom" fmla="*/ 427536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Text Box 5"/>
          <p:cNvSpPr/>
          <p:nvPr/>
        </p:nvSpPr>
        <p:spPr>
          <a:xfrm>
            <a:off x="304920" y="1981080"/>
            <a:ext cx="54100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егулярного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роверки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алиб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странению непол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ервисного обслуживания произ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9BEB-D4D0-4569-B7FA-71A03E6282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9" name="Picture 6" descr="MCPE07250_0000[1]"/>
          <p:cNvPicPr/>
          <p:nvPr/>
        </p:nvPicPr>
        <p:blipFill>
          <a:blip r:embed="rId2"/>
          <a:stretch/>
        </p:blipFill>
        <p:spPr>
          <a:xfrm>
            <a:off x="5670720" y="3276720"/>
            <a:ext cx="1568160" cy="1904760"/>
          </a:xfrm>
          <a:prstGeom prst="rect">
            <a:avLst/>
          </a:prstGeom>
          <a:ln w="0">
            <a:noFill/>
          </a:ln>
        </p:spPr>
      </p:pic>
      <p:pic>
        <p:nvPicPr>
          <p:cNvPr id="3460" name="Picture 7" descr="MCj02926060000[1]"/>
          <p:cNvPicPr/>
          <p:nvPr/>
        </p:nvPicPr>
        <p:blipFill>
          <a:blip r:embed="rId3"/>
          <a:stretch/>
        </p:blipFill>
        <p:spPr>
          <a:xfrm>
            <a:off x="6504120" y="4648320"/>
            <a:ext cx="1954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пециально выделенные журнал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380520" y="12837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гулярное обслуживани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рвисный ремонт производител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верка раб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3" name="Picture 4" descr="4_log_book"/>
          <p:cNvPicPr/>
          <p:nvPr/>
        </p:nvPicPr>
        <p:blipFill>
          <a:blip r:embed="rId1"/>
          <a:stretch/>
        </p:blipFill>
        <p:spPr>
          <a:xfrm>
            <a:off x="5486400" y="243828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346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BD23-1B5A-44CB-B71C-6E0F3918B9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иси пробл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7" name="Text Box 10"/>
          <p:cNvSpPr/>
          <p:nvPr/>
        </p:nvSpPr>
        <p:spPr>
          <a:xfrm>
            <a:off x="228600" y="1222200"/>
            <a:ext cx="8534520" cy="46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никновения проблемы и вывода прибора из эксплуа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чины неисправности или остановки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принятые                 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врата в эксплуатац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я в обслуживании                   или в проверках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8" name="Picture 4" descr="4_log_book"/>
          <p:cNvPicPr/>
          <p:nvPr/>
        </p:nvPicPr>
        <p:blipFill>
          <a:blip r:embed="rId1"/>
          <a:stretch/>
        </p:blipFill>
        <p:spPr>
          <a:xfrm>
            <a:off x="6477120" y="303840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46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9E72-84B4-41E1-9EF5-FA287678F3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CB1C-F041-4D1A-BBE0-1E76DC18FE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1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4" name="Group 14"/>
          <p:cNvGrpSpPr/>
          <p:nvPr/>
        </p:nvGrpSpPr>
        <p:grpSpPr>
          <a:xfrm>
            <a:off x="1752480" y="1143000"/>
            <a:ext cx="5639040" cy="5275440"/>
            <a:chOff x="1752480" y="1143000"/>
            <a:chExt cx="5639040" cy="5275440"/>
          </a:xfrm>
        </p:grpSpPr>
        <p:sp>
          <p:nvSpPr>
            <p:cNvPr id="3475" name="TextBox 1"/>
            <p:cNvSpPr/>
            <p:nvPr/>
          </p:nvSpPr>
          <p:spPr>
            <a:xfrm>
              <a:off x="2053800" y="1143000"/>
              <a:ext cx="5111640" cy="13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ЖУРНАЛ ОБОРУД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Лаборатория ………………………………………………..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Журнал для …………………………………………………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Начат ……………………………………(имя сотрудни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ата ….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TextBox 11"/>
            <p:cNvSpPr/>
            <p:nvPr/>
          </p:nvSpPr>
          <p:spPr>
            <a:xfrm>
              <a:off x="3695400" y="2562120"/>
              <a:ext cx="1808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ЖУРНАЛ 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TextBox 12"/>
            <p:cNvSpPr/>
            <p:nvPr/>
          </p:nvSpPr>
          <p:spPr>
            <a:xfrm>
              <a:off x="1752480" y="3025080"/>
              <a:ext cx="5639040" cy="27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формация об оборудов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TextBox 15"/>
            <p:cNvSpPr/>
            <p:nvPr/>
          </p:nvSpPr>
          <p:spPr>
            <a:xfrm>
              <a:off x="1752480" y="5030280"/>
              <a:ext cx="5639040" cy="308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та оборуд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TextBox 16"/>
            <p:cNvSpPr/>
            <p:nvPr/>
          </p:nvSpPr>
          <p:spPr>
            <a:xfrm>
              <a:off x="1771920" y="6139080"/>
              <a:ext cx="5619600" cy="279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ля работы с оборудованием имеют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TextBox 13"/>
            <p:cNvSpPr/>
            <p:nvPr/>
          </p:nvSpPr>
          <p:spPr>
            <a:xfrm>
              <a:off x="1760760" y="338328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 оборудо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TextBox 19"/>
            <p:cNvSpPr/>
            <p:nvPr/>
          </p:nvSpPr>
          <p:spPr>
            <a:xfrm>
              <a:off x="1760760" y="35625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орговая мар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TextBox 20"/>
            <p:cNvSpPr/>
            <p:nvPr/>
          </p:nvSpPr>
          <p:spPr>
            <a:xfrm>
              <a:off x="1760760" y="37659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TextBox 21"/>
            <p:cNvSpPr/>
            <p:nvPr/>
          </p:nvSpPr>
          <p:spPr>
            <a:xfrm>
              <a:off x="1760760" y="394812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ерий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TextBox 22"/>
            <p:cNvSpPr/>
            <p:nvPr/>
          </p:nvSpPr>
          <p:spPr>
            <a:xfrm>
              <a:off x="1760760" y="4130280"/>
              <a:ext cx="193428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Регистрацион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TextBox 23"/>
            <p:cNvSpPr/>
            <p:nvPr/>
          </p:nvSpPr>
          <p:spPr>
            <a:xfrm>
              <a:off x="1755360" y="431244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ата введения в эксплуатаци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TextBox 24"/>
            <p:cNvSpPr/>
            <p:nvPr/>
          </p:nvSpPr>
          <p:spPr>
            <a:xfrm>
              <a:off x="1755360" y="448812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родаве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TextBox 25"/>
            <p:cNvSpPr/>
            <p:nvPr/>
          </p:nvSpPr>
          <p:spPr>
            <a:xfrm>
              <a:off x="1755360" y="4695120"/>
              <a:ext cx="251640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остояние при покупке (новое, ис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ользованное, отремонтированное)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8" name="Picture 3" descr=""/>
          <p:cNvPicPr/>
          <p:nvPr/>
        </p:nvPicPr>
        <p:blipFill>
          <a:blip r:embed="rId1"/>
          <a:stretch/>
        </p:blipFill>
        <p:spPr>
          <a:xfrm>
            <a:off x="2147484240" y="1814512680"/>
            <a:ext cx="2147482800" cy="214748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9" name=""/>
          <p:cNvGraphicFramePr/>
          <p:nvPr/>
        </p:nvGraphicFramePr>
        <p:xfrm>
          <a:off x="1219320" y="1143000"/>
          <a:ext cx="6800760" cy="5030640"/>
        </p:xfrm>
        <a:graphic>
          <a:graphicData uri="http://schemas.openxmlformats.org/drawingml/2006/table">
            <a:tbl>
              <a:tblPr/>
              <a:tblGrid>
                <a:gridCol w="3325680"/>
                <a:gridCol w="3475080"/>
              </a:tblGrid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работы с оборудованием име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960">
                <a:tc>
                  <a:txBody>
                    <a:bodyPr lIns="90000" rIns="90000" tIns="3600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ц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сные ча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по профилактическому обслужи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пользовате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раз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3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6 месяц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внешними организация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ирма/тип работ/периодич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 ... ... ... / .........................../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0" name="Oval 4"/>
          <p:cNvSpPr/>
          <p:nvPr/>
        </p:nvSpPr>
        <p:spPr>
          <a:xfrm>
            <a:off x="304920" y="2819520"/>
            <a:ext cx="8381880" cy="35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FBAF-7321-475F-8643-A28C389684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4" name=""/>
          <p:cNvGraphicFramePr/>
          <p:nvPr/>
        </p:nvGraphicFramePr>
        <p:xfrm>
          <a:off x="1486080" y="1333440"/>
          <a:ext cx="6134040" cy="4403880"/>
        </p:xfrm>
        <a:graphic>
          <a:graphicData uri="http://schemas.openxmlformats.org/drawingml/2006/table">
            <a:tbl>
              <a:tblPr/>
              <a:tblGrid>
                <a:gridCol w="2404800"/>
                <a:gridCol w="3729240"/>
              </a:tblGrid>
              <a:tr h="44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 Д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Запишите здесь  все действия, проведенные с оборудованием во время профилактического обслуживания или ремонт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/ опер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5" name="Rectangle 36"/>
          <p:cNvSpPr/>
          <p:nvPr/>
        </p:nvSpPr>
        <p:spPr>
          <a:xfrm>
            <a:off x="0" y="577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56A1-E096-4C43-94C4-415CC75E5B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055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по управлению оборудованием  включае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ор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илактическое обслужи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по поиску и устранению неполадок и ремон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ы и записи должны включ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ь всего лабораторн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ацию от производителя по работе, сервисному обслуживанию и поиску и устранению неполад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 по проведению всех профилактических и ремонтных раб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2E44-04BB-4D4F-9BFA-87FC1B7514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6840" y="1139400"/>
            <a:ext cx="80773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по обслуживанию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еспечит высокое качество работы и высокую уверенность в надежности результат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ведет к уменьшению числа остановок в выполнении анализов и снижению расходов на ремонт и предотвратит преждевременную замену оборудова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высит безопасность условий труда сотрудников лаборатории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05" name="Group 1"/>
          <p:cNvGrpSpPr/>
          <p:nvPr/>
        </p:nvGrpSpPr>
        <p:grpSpPr>
          <a:xfrm>
            <a:off x="304920" y="4724280"/>
            <a:ext cx="8534160" cy="1600200"/>
            <a:chOff x="304920" y="4724280"/>
            <a:chExt cx="8534160" cy="1600200"/>
          </a:xfrm>
        </p:grpSpPr>
        <p:sp>
          <p:nvSpPr>
            <p:cNvPr id="3506" name="Rectangle 4"/>
            <p:cNvSpPr/>
            <p:nvPr/>
          </p:nvSpPr>
          <p:spPr>
            <a:xfrm>
              <a:off x="304920" y="4724280"/>
              <a:ext cx="8534160" cy="16002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Text Box 5"/>
            <p:cNvSpPr/>
            <p:nvPr/>
          </p:nvSpPr>
          <p:spPr>
            <a:xfrm>
              <a:off x="380880" y="480024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сновным видом обслуживания оборудования является ПРОФИЛАКТИЧЕСКОЕ обслужи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6BDE-50BE-4BB7-A311-E11DE59B31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1E8C-3BFE-4CF5-A0D4-24D5617CFA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51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51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52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52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53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53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53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53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54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54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355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355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56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56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56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2A5F-91EE-4B94-9C3E-EE9420B1A4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312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10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11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313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313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314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2" name="Text Box 70"/>
                <p:cNvSpPr/>
                <p:nvPr/>
              </p:nvSpPr>
              <p:spPr>
                <a:xfrm>
                  <a:off x="1848600" y="1418400"/>
                  <a:ext cx="1475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314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314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314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2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3154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Text Box 47"/>
              <p:cNvSpPr/>
              <p:nvPr/>
            </p:nvSpPr>
            <p:spPr>
              <a:xfrm>
                <a:off x="1848600" y="2713320"/>
                <a:ext cx="1380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315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316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3166" name="Freeform 30"/>
              <p:cNvSpPr/>
              <p:nvPr/>
            </p:nvSpPr>
            <p:spPr>
              <a:xfrm>
                <a:off x="3855240" y="3740040"/>
                <a:ext cx="1372680" cy="114120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317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3175" name="Freeform 34"/>
              <p:cNvSpPr/>
              <p:nvPr/>
            </p:nvSpPr>
            <p:spPr>
              <a:xfrm>
                <a:off x="3879360" y="4966920"/>
                <a:ext cx="1370520" cy="114012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178" name="Freeform 63"/>
              <p:cNvSpPr/>
              <p:nvPr/>
            </p:nvSpPr>
            <p:spPr>
              <a:xfrm>
                <a:off x="5774400" y="5032080"/>
                <a:ext cx="1372320" cy="1139760"/>
              </a:xfrm>
              <a:custGeom>
                <a:avLst/>
                <a:gdLst>
                  <a:gd name="textAreaLeft" fmla="*/ 0 w 1372320"/>
                  <a:gd name="textAreaRight" fmla="*/ 1372680 w 13723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15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82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685800" y="1473120"/>
            <a:ext cx="3048120" cy="1879560"/>
          </a:xfrm>
          <a:prstGeom prst="rect">
            <a:avLst/>
          </a:prstGeom>
          <a:ln w="0">
            <a:noFill/>
          </a:ln>
        </p:spPr>
      </p:pic>
      <p:sp>
        <p:nvSpPr>
          <p:cNvPr id="3183" name="Text Box 5"/>
          <p:cNvSpPr/>
          <p:nvPr/>
        </p:nvSpPr>
        <p:spPr>
          <a:xfrm>
            <a:off x="304920" y="323676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та на высок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6"/>
          <p:cNvSpPr/>
          <p:nvPr/>
        </p:nvSpPr>
        <p:spPr>
          <a:xfrm>
            <a:off x="38098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8"/>
          <p:cNvGrpSpPr/>
          <p:nvPr/>
        </p:nvGrpSpPr>
        <p:grpSpPr>
          <a:xfrm>
            <a:off x="4267080" y="1752480"/>
            <a:ext cx="2514600" cy="1219320"/>
            <a:chOff x="4267080" y="1752480"/>
            <a:chExt cx="2514600" cy="1219320"/>
          </a:xfrm>
        </p:grpSpPr>
        <p:grpSp>
          <p:nvGrpSpPr>
            <p:cNvPr id="3186" name="Group 9"/>
            <p:cNvGrpSpPr/>
            <p:nvPr/>
          </p:nvGrpSpPr>
          <p:grpSpPr>
            <a:xfrm>
              <a:off x="4267080" y="1752480"/>
              <a:ext cx="2438280" cy="1219320"/>
              <a:chOff x="4267080" y="1752480"/>
              <a:chExt cx="2438280" cy="1219320"/>
            </a:xfrm>
          </p:grpSpPr>
          <p:grpSp>
            <p:nvGrpSpPr>
              <p:cNvPr id="3187" name="Group 10"/>
              <p:cNvGrpSpPr/>
              <p:nvPr/>
            </p:nvGrpSpPr>
            <p:grpSpPr>
              <a:xfrm>
                <a:off x="4267080" y="1752480"/>
                <a:ext cx="2438280" cy="1219320"/>
                <a:chOff x="4267080" y="1752480"/>
                <a:chExt cx="2438280" cy="1219320"/>
              </a:xfrm>
            </p:grpSpPr>
            <p:sp>
              <p:nvSpPr>
                <p:cNvPr id="3188" name="Line 11"/>
                <p:cNvSpPr/>
                <p:nvPr/>
              </p:nvSpPr>
              <p:spPr>
                <a:xfrm>
                  <a:off x="4267080" y="1752480"/>
                  <a:ext cx="0" cy="12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2"/>
                <p:cNvSpPr/>
                <p:nvPr/>
              </p:nvSpPr>
              <p:spPr>
                <a:xfrm>
                  <a:off x="4267080" y="297180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0" name="Line 13"/>
              <p:cNvSpPr/>
              <p:nvPr/>
            </p:nvSpPr>
            <p:spPr>
              <a:xfrm>
                <a:off x="4343040" y="20574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Line 14"/>
              <p:cNvSpPr/>
              <p:nvPr/>
            </p:nvSpPr>
            <p:spPr>
              <a:xfrm>
                <a:off x="4343040" y="259092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15"/>
              <p:cNvSpPr/>
              <p:nvPr/>
            </p:nvSpPr>
            <p:spPr>
              <a:xfrm>
                <a:off x="4419360" y="2286000"/>
                <a:ext cx="2286000" cy="7632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248" h="56">
                    <a:moveTo>
                      <a:pt x="0" y="56"/>
                    </a:moveTo>
                    <a:cubicBezTo>
                      <a:pt x="96" y="36"/>
                      <a:pt x="192" y="16"/>
                      <a:pt x="288" y="8"/>
                    </a:cubicBezTo>
                    <a:cubicBezTo>
                      <a:pt x="384" y="0"/>
                      <a:pt x="504" y="0"/>
                      <a:pt x="576" y="8"/>
                    </a:cubicBezTo>
                    <a:cubicBezTo>
                      <a:pt x="648" y="16"/>
                      <a:pt x="648" y="56"/>
                      <a:pt x="720" y="56"/>
                    </a:cubicBezTo>
                    <a:cubicBezTo>
                      <a:pt x="792" y="56"/>
                      <a:pt x="920" y="16"/>
                      <a:pt x="1008" y="8"/>
                    </a:cubicBezTo>
                    <a:cubicBezTo>
                      <a:pt x="1096" y="0"/>
                      <a:pt x="1208" y="8"/>
                      <a:pt x="1248" y="8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3" name="Line 16"/>
            <p:cNvSpPr/>
            <p:nvPr/>
          </p:nvSpPr>
          <p:spPr>
            <a:xfrm>
              <a:off x="678168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4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зброс</a:t>
            </a: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/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5" name="Picture 18" descr="j0424784"/>
          <p:cNvPicPr/>
          <p:nvPr/>
        </p:nvPicPr>
        <p:blipFill>
          <a:blip r:embed="rId2"/>
          <a:stretch/>
        </p:blipFill>
        <p:spPr>
          <a:xfrm>
            <a:off x="2819520" y="4362480"/>
            <a:ext cx="2133360" cy="1962000"/>
          </a:xfrm>
          <a:prstGeom prst="rect">
            <a:avLst/>
          </a:prstGeom>
          <a:ln w="0">
            <a:noFill/>
          </a:ln>
        </p:spPr>
      </p:pic>
      <p:sp>
        <p:nvSpPr>
          <p:cNvPr id="3196" name="Text Box 19"/>
          <p:cNvSpPr/>
          <p:nvPr/>
        </p:nvSpPr>
        <p:spPr>
          <a:xfrm>
            <a:off x="457200" y="47116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нижает  расходы на рем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20"/>
          <p:cNvSpPr/>
          <p:nvPr/>
        </p:nvSpPr>
        <p:spPr>
          <a:xfrm>
            <a:off x="5638680" y="54100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линяет срок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8" name="Picture 19" descr="timer_running"/>
          <p:cNvPicPr/>
          <p:nvPr/>
        </p:nvPicPr>
        <p:blipFill>
          <a:blip r:embed="rId3"/>
          <a:stretch/>
        </p:blipFill>
        <p:spPr>
          <a:xfrm rot="783000">
            <a:off x="6552720" y="2906640"/>
            <a:ext cx="1714680" cy="2571840"/>
          </a:xfrm>
          <a:prstGeom prst="rect">
            <a:avLst/>
          </a:prstGeom>
          <a:ln w="0">
            <a:noFill/>
          </a:ln>
        </p:spPr>
      </p:pic>
      <p:sp>
        <p:nvSpPr>
          <p:cNvPr id="3199" name="Slide Number Placeholder 1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569E-8DB6-4EA2-A346-0CB05B99F1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Footer Placeholder 2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Text Box 4"/>
          <p:cNvSpPr/>
          <p:nvPr/>
        </p:nvSpPr>
        <p:spPr>
          <a:xfrm>
            <a:off x="2133720" y="173664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ьшает число остановок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5"/>
          <p:cNvSpPr/>
          <p:nvPr/>
        </p:nvSpPr>
        <p:spPr>
          <a:xfrm>
            <a:off x="5791320" y="13111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вышает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7"/>
          <p:cNvSpPr/>
          <p:nvPr/>
        </p:nvSpPr>
        <p:spPr>
          <a:xfrm>
            <a:off x="2857680" y="4876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ше удовлетворенность заказ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4" name="Picture 8" descr="MCj04326350000[1]"/>
          <p:cNvPicPr/>
          <p:nvPr/>
        </p:nvPicPr>
        <p:blipFill>
          <a:blip r:embed="rId1"/>
          <a:stretch/>
        </p:blipFill>
        <p:spPr>
          <a:xfrm>
            <a:off x="228600" y="14479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3205" name="Picture 7" descr="mom_baby"/>
          <p:cNvPicPr/>
          <p:nvPr/>
        </p:nvPicPr>
        <p:blipFill>
          <a:blip r:embed="rId2"/>
          <a:stretch/>
        </p:blipFill>
        <p:spPr>
          <a:xfrm>
            <a:off x="457200" y="430056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3206" name="Picture 8" descr="5721_lores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746680" y="2327400"/>
            <a:ext cx="3245040" cy="2930400"/>
          </a:xfrm>
          <a:prstGeom prst="rect">
            <a:avLst/>
          </a:prstGeom>
          <a:ln w="0">
            <a:noFill/>
          </a:ln>
        </p:spPr>
      </p:pic>
      <p:sp>
        <p:nvSpPr>
          <p:cNvPr id="3207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750A-7E94-44EB-A6CF-C835205E21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2"/>
          <p:cNvSpPr/>
          <p:nvPr/>
        </p:nvSpPr>
        <p:spPr>
          <a:xfrm>
            <a:off x="76320" y="53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75CE-3D86-4979-B86C-F1D1D7A55F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21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ставные части прогр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3" name="Diagram 2"/>
          <p:cNvGrpSpPr/>
          <p:nvPr/>
        </p:nvGrpSpPr>
        <p:grpSpPr>
          <a:xfrm>
            <a:off x="687240" y="1351080"/>
            <a:ext cx="7922520" cy="4992120"/>
            <a:chOff x="687240" y="1351080"/>
            <a:chExt cx="7922520" cy="4992120"/>
          </a:xfrm>
        </p:grpSpPr>
        <p:sp>
          <p:nvSpPr>
            <p:cNvPr id="3214" name="_s1028"/>
            <p:cNvSpPr/>
            <p:nvPr/>
          </p:nvSpPr>
          <p:spPr>
            <a:xfrm flipH="1" flipV="1">
              <a:off x="2816640" y="3221640"/>
              <a:ext cx="877320" cy="312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_s1029"/>
            <p:cNvSpPr/>
            <p:nvPr/>
          </p:nvSpPr>
          <p:spPr>
            <a:xfrm>
              <a:off x="687240" y="2285280"/>
              <a:ext cx="226620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писани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да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_s1030"/>
            <p:cNvSpPr/>
            <p:nvPr/>
          </p:nvSpPr>
          <p:spPr>
            <a:xfrm flipH="1">
              <a:off x="281664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_s1031"/>
            <p:cNvSpPr/>
            <p:nvPr/>
          </p:nvSpPr>
          <p:spPr>
            <a:xfrm>
              <a:off x="687240" y="4158360"/>
              <a:ext cx="226620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ервис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 ремон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_s1032"/>
            <p:cNvSpPr/>
            <p:nvPr/>
          </p:nvSpPr>
          <p:spPr>
            <a:xfrm>
              <a:off x="4571640" y="447048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_s1033"/>
            <p:cNvSpPr/>
            <p:nvPr/>
          </p:nvSpPr>
          <p:spPr>
            <a:xfrm>
              <a:off x="3354120" y="5094720"/>
              <a:ext cx="266616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оиск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ра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исправ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_s1034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_s1035"/>
            <p:cNvSpPr/>
            <p:nvPr/>
          </p:nvSpPr>
          <p:spPr>
            <a:xfrm>
              <a:off x="6189480" y="4158360"/>
              <a:ext cx="242028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Текущ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_s1036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_s1037"/>
            <p:cNvSpPr/>
            <p:nvPr/>
          </p:nvSpPr>
          <p:spPr>
            <a:xfrm>
              <a:off x="6189480" y="228744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алибровк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ц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_s1038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_s1039"/>
            <p:cNvSpPr/>
            <p:nvPr/>
          </p:nvSpPr>
          <p:spPr>
            <a:xfrm>
              <a:off x="3558240" y="135108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ан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_s1040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Выбо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и закуп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6868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правление оборудовани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по всем видам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всех сотрудников необходимым требованиям при работе с оборудованием и его обслу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осуществлением программы  путе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еспечения соблюдения процеду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гулярного просмотра запис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новления процедур по мере надоб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42A1-17B5-40EF-A85F-B5B25C5ABB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315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3" name="Text Box 5"/>
          <p:cNvSpPr/>
          <p:nvPr/>
        </p:nvSpPr>
        <p:spPr>
          <a:xfrm>
            <a:off x="3048120" y="4930920"/>
            <a:ext cx="4952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и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4" name="Picture 6" descr="j0424784"/>
          <p:cNvPicPr/>
          <p:nvPr/>
        </p:nvPicPr>
        <p:blipFill>
          <a:blip r:embed="rId1"/>
          <a:stretch/>
        </p:blipFill>
        <p:spPr>
          <a:xfrm>
            <a:off x="1066680" y="4853160"/>
            <a:ext cx="1600200" cy="1471320"/>
          </a:xfrm>
          <a:prstGeom prst="rect">
            <a:avLst/>
          </a:prstGeom>
          <a:ln w="0">
            <a:noFill/>
          </a:ln>
        </p:spPr>
      </p:pic>
      <p:pic>
        <p:nvPicPr>
          <p:cNvPr id="3235" name="Picture 11" descr="equip_6"/>
          <p:cNvPicPr/>
          <p:nvPr/>
        </p:nvPicPr>
        <p:blipFill>
          <a:blip r:embed="rId2"/>
          <a:srcRect l="4914" t="34899" r="24572" b="14957"/>
          <a:stretch/>
        </p:blipFill>
        <p:spPr>
          <a:xfrm>
            <a:off x="1600200" y="1638360"/>
            <a:ext cx="2666880" cy="2484360"/>
          </a:xfrm>
          <a:prstGeom prst="rect">
            <a:avLst/>
          </a:prstGeom>
          <a:ln w="0">
            <a:noFill/>
          </a:ln>
        </p:spPr>
      </p:pic>
      <p:pic>
        <p:nvPicPr>
          <p:cNvPr id="3236" name="Picture 12" descr="lab pic"/>
          <p:cNvPicPr/>
          <p:nvPr/>
        </p:nvPicPr>
        <p:blipFill>
          <a:blip r:embed="rId3"/>
          <a:stretch/>
        </p:blipFill>
        <p:spPr>
          <a:xfrm>
            <a:off x="4262400" y="1638360"/>
            <a:ext cx="3276720" cy="2438280"/>
          </a:xfrm>
          <a:prstGeom prst="rect">
            <a:avLst/>
          </a:prstGeom>
          <a:ln w="0">
            <a:noFill/>
          </a:ln>
        </p:spPr>
      </p:pic>
      <p:sp>
        <p:nvSpPr>
          <p:cNvPr id="3237" name="Rectangle 13"/>
          <p:cNvSpPr/>
          <p:nvPr/>
        </p:nvSpPr>
        <p:spPr>
          <a:xfrm>
            <a:off x="4114800" y="3962520"/>
            <a:ext cx="3429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14"/>
          <p:cNvSpPr/>
          <p:nvPr/>
        </p:nvSpPr>
        <p:spPr>
          <a:xfrm>
            <a:off x="4952880" y="3962520"/>
            <a:ext cx="2583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ребования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мещ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15"/>
          <p:cNvSpPr/>
          <p:nvPr/>
        </p:nvSpPr>
        <p:spPr>
          <a:xfrm>
            <a:off x="1600200" y="3962520"/>
            <a:ext cx="25146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требност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оборуд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AutoShape 16"/>
          <p:cNvSpPr/>
          <p:nvPr/>
        </p:nvSpPr>
        <p:spPr>
          <a:xfrm>
            <a:off x="4114800" y="41148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F202-3B51-4EFA-AAEB-B4CBBFD9B7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2:03:37Z</dcterms:modified>
  <cp:revision>222</cp:revision>
  <dc:subject/>
  <dc:title>Slide 1</dc:title>
</cp:coreProperties>
</file>